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492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906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76080" y="3375360"/>
            <a:ext cx="27478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37536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375360"/>
            <a:ext cx="85341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094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324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3087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90066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  <a:p>
            <a:pPr lvl="1" marL="379440" indent="0"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94680" algn="ctr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94680" algn="ctr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17760" indent="101520" algn="ctr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517760" indent="101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517760" indent="101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51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535440"/>
            <a:ext cx="424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0033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110280"/>
            <a:ext cx="9144000" cy="762120"/>
          </a:xfrm>
          <a:prstGeom prst="rect">
            <a:avLst/>
          </a:prstGeom>
          <a:solidFill>
            <a:srgbClr val="b7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3240" y="653724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5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0280" y="4648320"/>
            <a:ext cx="868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owerPoint Lectures for </a:t>
            </a:r>
            <a:br>
              <a:rPr sz="1800"/>
            </a:b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Biology, Seven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0120" y="5273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66"/>
                </a:solidFill>
                <a:latin typeface="Times New Roman"/>
              </a:rPr>
              <a:t>Neil Campbell and Jane 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880" y="60958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66"/>
                </a:solidFill>
                <a:latin typeface="Times New Roman"/>
              </a:rPr>
              <a:t>Lectures by Chris Ro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37960" y="1531440"/>
            <a:ext cx="8677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87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93366"/>
                </a:solidFill>
                <a:latin typeface="Times New Roman"/>
              </a:rPr>
              <a:t>Eukaryotic Genomes: Organization, Regulation, and Evolution</a:t>
            </a:r>
            <a:endParaRPr b="0" lang="en-US" sz="5500" spc="-1" strike="noStrike">
              <a:solidFill>
                <a:srgbClr val="99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interphase ce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hromatin is in the highly extended form called euchroma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19.2: Gene expression can be regulated at any stage, but the key step is transcri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organis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regulate which genes are expressed at any give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ring development of a multicellular organ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cells undergo a process of specialization in form and function called cell differen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Differential Gene Express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cell of a multicellular eukaryo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es only a fraction of its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ach type of differentiated c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nique subset of genes is ex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key stages of gene ex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regulated in eu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119320" y="1841040"/>
            <a:ext cx="3497400" cy="4672080"/>
            <a:chOff x="2119320" y="1841040"/>
            <a:chExt cx="3497400" cy="4672080"/>
          </a:xfrm>
        </p:grpSpPr>
        <p:sp>
          <p:nvSpPr>
            <p:cNvPr id="242" name=""/>
            <p:cNvSpPr/>
            <p:nvPr/>
          </p:nvSpPr>
          <p:spPr>
            <a:xfrm>
              <a:off x="2119320" y="6177240"/>
              <a:ext cx="1386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19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3530520" y="1841040"/>
              <a:ext cx="2086200" cy="4618080"/>
              <a:chOff x="3530520" y="1841040"/>
              <a:chExt cx="2086200" cy="4618080"/>
            </a:xfrm>
          </p:grpSpPr>
          <p:pic>
            <p:nvPicPr>
              <p:cNvPr id="2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30520" y="1953000"/>
                <a:ext cx="2086200" cy="450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3764160" y="1841040"/>
                <a:ext cx="43056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igna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808160" y="2126160"/>
                <a:ext cx="60876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UCLEU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552560" y="2246040"/>
                <a:ext cx="59040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hromati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293000" y="2377080"/>
                <a:ext cx="10339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hromatin modification: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NA unpacking involvin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istone acetylation an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NA demethla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098600" y="2968560"/>
                <a:ext cx="39996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en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91080" y="2703240"/>
                <a:ext cx="37260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N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697640" y="2767680"/>
                <a:ext cx="790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ene availabl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or transcrip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816720" y="3245400"/>
                <a:ext cx="37260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N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359600" y="3232440"/>
                <a:ext cx="38628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x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411080" y="3098520"/>
                <a:ext cx="69264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58320" y="3394080"/>
                <a:ext cx="0" cy="11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536720" y="3358440"/>
                <a:ext cx="87372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rimary transcrip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449960" y="3587760"/>
                <a:ext cx="82224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NA process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303440" y="4033800"/>
                <a:ext cx="9651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ransport to cytoplas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259520" y="3474360"/>
                <a:ext cx="40896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ntr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448160" y="3432960"/>
                <a:ext cx="0" cy="96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672720" y="3855960"/>
                <a:ext cx="34668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961800" y="3961080"/>
                <a:ext cx="66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454640" y="3837960"/>
                <a:ext cx="86616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RNA in nucleu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527000" y="3681360"/>
                <a:ext cx="32688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4558320" y="3832560"/>
                <a:ext cx="102960" cy="36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843080" y="4219200"/>
                <a:ext cx="73080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YTOPLAS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44200" y="4360320"/>
                <a:ext cx="95940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mRNA in cytoplas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14760" y="4478760"/>
                <a:ext cx="663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egrada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f mRN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438080" y="4726440"/>
                <a:ext cx="61956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489920" y="5003280"/>
                <a:ext cx="59652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olypetid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307760" y="5153760"/>
                <a:ext cx="933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leavag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hemical modifica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ransport to cellula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estina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322880" y="5660640"/>
                <a:ext cx="71856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ctive protei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305960" y="5900760"/>
                <a:ext cx="94392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egradation of protei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357440" y="6140520"/>
                <a:ext cx="86328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egraded protei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Regulation of Chromatin Structu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s within highly packed heterochromat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usually not ex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Histone Modific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mical modification of histone 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ffect the configuration of chromatin and thus ge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76320" y="6229800"/>
            <a:ext cx="1538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9.4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514600" y="2416320"/>
            <a:ext cx="4343400" cy="39272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067920" y="6308640"/>
            <a:ext cx="3409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) Histone tails protrude outward from a nucleos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673360" y="2577960"/>
            <a:ext cx="4193640" cy="3648240"/>
            <a:chOff x="2673360" y="2577960"/>
            <a:chExt cx="4193640" cy="3648240"/>
          </a:xfrm>
        </p:grpSpPr>
        <p:sp>
          <p:nvSpPr>
            <p:cNvPr id="283" name=""/>
            <p:cNvSpPr/>
            <p:nvPr/>
          </p:nvSpPr>
          <p:spPr>
            <a:xfrm>
              <a:off x="2863800" y="2577960"/>
              <a:ext cx="849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hromatin chang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58480" y="2890800"/>
              <a:ext cx="6285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ranscrip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18520" y="3192480"/>
              <a:ext cx="7365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NA process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73360" y="3615120"/>
              <a:ext cx="59040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RNA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grada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76080" y="3600360"/>
              <a:ext cx="5644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ransla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51160" y="3922920"/>
              <a:ext cx="81900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rotein process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nd degrada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63960" y="5235480"/>
              <a:ext cx="8571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ouble heli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3454560" y="5230800"/>
              <a:ext cx="793440" cy="16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94720" y="5524560"/>
              <a:ext cx="872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mino aci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vail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r chem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dif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775480" y="5719320"/>
              <a:ext cx="255600" cy="12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715000" y="5724000"/>
              <a:ext cx="320760" cy="38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13280" y="4202280"/>
              <a:ext cx="613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isto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5532480" y="4362480"/>
              <a:ext cx="33660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5716440" y="4368960"/>
              <a:ext cx="146160" cy="171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ne acety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ms to loosen chromatin structure and thereby enhance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582480" y="2692440"/>
            <a:ext cx="7977240" cy="3348360"/>
            <a:chOff x="582480" y="2692440"/>
            <a:chExt cx="7977240" cy="3348360"/>
          </a:xfrm>
        </p:grpSpPr>
        <p:sp>
          <p:nvSpPr>
            <p:cNvPr id="300" name=""/>
            <p:cNvSpPr/>
            <p:nvPr/>
          </p:nvSpPr>
          <p:spPr>
            <a:xfrm>
              <a:off x="582480" y="5652000"/>
              <a:ext cx="1538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19.4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863640" y="2692440"/>
              <a:ext cx="7696080" cy="3348360"/>
              <a:chOff x="863640" y="2692440"/>
              <a:chExt cx="7696080" cy="3348360"/>
            </a:xfrm>
          </p:grpSpPr>
          <p:pic>
            <p:nvPicPr>
              <p:cNvPr id="30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63640" y="2692440"/>
                <a:ext cx="7696080" cy="2260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3" name=""/>
              <p:cNvGrpSpPr/>
              <p:nvPr/>
            </p:nvGrpSpPr>
            <p:grpSpPr>
              <a:xfrm>
                <a:off x="1390320" y="4905360"/>
                <a:ext cx="6546240" cy="1135440"/>
                <a:chOff x="1390320" y="4905360"/>
                <a:chExt cx="6546240" cy="11354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145600" y="5583240"/>
                  <a:ext cx="579096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b) Acetylation of histone tails promotes loose chromatin structure that permits transcrip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390320" y="4921200"/>
                  <a:ext cx="1690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nacetylated hist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810760" y="4905360"/>
                  <a:ext cx="1512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cetylated hist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DNA Methy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tion of methyl groups to certain base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ssociated with reduced transcription in some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Epigenetic Inheritanc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pigenetic inheri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inheritance of traits transmitted by mechanisms not directly involving the nucleotide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Regulation of Transcription Init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romatin-modifying enzymes provide initial control of gene ex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king a region of DNA either more or less able to bind the transcription machin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32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: How Eukaryotic Genomes Work and Ev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ukaryotes, the DNA-protein complex, called chroma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ordered into higher structural levels than the DNA-protein complex in prokaryo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181160" y="3832200"/>
            <a:ext cx="5067360" cy="2752560"/>
            <a:chOff x="1181160" y="3832200"/>
            <a:chExt cx="5067360" cy="2752560"/>
          </a:xfrm>
        </p:grpSpPr>
        <p:sp>
          <p:nvSpPr>
            <p:cNvPr id="174" name=""/>
            <p:cNvSpPr/>
            <p:nvPr/>
          </p:nvSpPr>
          <p:spPr>
            <a:xfrm>
              <a:off x="1181160" y="6248880"/>
              <a:ext cx="1600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19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2666880" y="3832200"/>
              <a:ext cx="3581640" cy="2678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Organization of a Typical Eukaryotic Gen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d with most eukaryotic genes are multiple contro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gments of noncoding DNA that help regulate transcription by binding certain prote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0920" y="6228000"/>
            <a:ext cx="1538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155600" y="2719440"/>
            <a:ext cx="7686720" cy="3832200"/>
            <a:chOff x="1155600" y="2719440"/>
            <a:chExt cx="7686720" cy="3832200"/>
          </a:xfrm>
        </p:grpSpPr>
        <p:pic>
          <p:nvPicPr>
            <p:cNvPr id="317" name="" descr=""/>
            <p:cNvPicPr/>
            <p:nvPr/>
          </p:nvPicPr>
          <p:blipFill>
            <a:blip r:embed="rId1"/>
            <a:stretch/>
          </p:blipFill>
          <p:spPr>
            <a:xfrm>
              <a:off x="1380960" y="3225960"/>
              <a:ext cx="7283520" cy="29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429200" y="2733840"/>
              <a:ext cx="15260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nhanc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distal control element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179800" y="3094200"/>
              <a:ext cx="0" cy="24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858680" y="3087720"/>
              <a:ext cx="315720" cy="26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71880" y="3086280"/>
              <a:ext cx="44748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54320" y="2724120"/>
              <a:ext cx="1111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xim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trol ele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664080" y="3089160"/>
              <a:ext cx="47520" cy="25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713040" y="3083040"/>
              <a:ext cx="14292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55600" y="3357360"/>
              <a:ext cx="4258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01760" y="3573360"/>
              <a:ext cx="73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pstre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290200">
              <a:off x="4176360" y="3440160"/>
              <a:ext cx="147600" cy="455760"/>
            </a:xfrm>
            <a:custGeom>
              <a:avLst/>
              <a:gdLst>
                <a:gd name="textAreaLeft" fmla="*/ 0 w 147600"/>
                <a:gd name="textAreaRight" fmla="*/ 53280 w 147600"/>
                <a:gd name="textAreaTop" fmla="*/ 11880 h 455760"/>
                <a:gd name="textAreaBottom" fmla="*/ 443880 h 4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7915"/>
                  </a:lnTo>
                  <a:cubicBezTo>
                    <a:pt x="10800" y="8815"/>
                    <a:pt x="16200" y="9715"/>
                    <a:pt x="21600" y="9715"/>
                  </a:cubicBezTo>
                  <a:cubicBezTo>
                    <a:pt x="16200" y="9715"/>
                    <a:pt x="10800" y="10615"/>
                    <a:pt x="10800" y="11515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25800" y="3699000"/>
              <a:ext cx="704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mo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88720" y="3138480"/>
              <a:ext cx="473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76240" y="3151080"/>
              <a:ext cx="507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r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54040" y="3151080"/>
              <a:ext cx="473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39760" y="3138480"/>
              <a:ext cx="507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r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31520" y="2719440"/>
              <a:ext cx="921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ly-A sig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62120" y="3151080"/>
              <a:ext cx="473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74040" y="3067200"/>
              <a:ext cx="144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283600" y="3084480"/>
              <a:ext cx="324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852320" y="2719440"/>
              <a:ext cx="8510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ermin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62400" y="3726000"/>
              <a:ext cx="994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ranscrip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37560" y="3541680"/>
              <a:ext cx="895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ownstre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99360" y="3751200"/>
              <a:ext cx="556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ly-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74040" y="4127400"/>
              <a:ext cx="144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19280" y="4089240"/>
              <a:ext cx="473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97000" y="4089240"/>
              <a:ext cx="507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r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96800" y="4079880"/>
              <a:ext cx="473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84160" y="4089240"/>
              <a:ext cx="507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r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71360" y="4089240"/>
              <a:ext cx="473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55720" y="4121280"/>
              <a:ext cx="9226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imary R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crip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pre-mRN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64200" y="4252680"/>
              <a:ext cx="298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51160" y="4896000"/>
              <a:ext cx="810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ron R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903920" y="4921200"/>
              <a:ext cx="312480" cy="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flipV="1">
              <a:off x="4909680" y="5025960"/>
              <a:ext cx="43668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61040" y="4495680"/>
              <a:ext cx="1450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NA processing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p and tail added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rons excised 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ons spliced toge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6199400">
              <a:off x="5906160" y="4874040"/>
              <a:ext cx="172800" cy="1571760"/>
            </a:xfrm>
            <a:custGeom>
              <a:avLst/>
              <a:gdLst>
                <a:gd name="textAreaLeft" fmla="*/ 0 w 172800"/>
                <a:gd name="textAreaRight" fmla="*/ 62280 w 172800"/>
                <a:gd name="textAreaTop" fmla="*/ 40680 h 1571760"/>
                <a:gd name="textAreaBottom" fmla="*/ 1531080 h 15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887"/>
                  </a:lnTo>
                  <a:cubicBezTo>
                    <a:pt x="10800" y="9787"/>
                    <a:pt x="16200" y="10687"/>
                    <a:pt x="21600" y="10687"/>
                  </a:cubicBezTo>
                  <a:cubicBezTo>
                    <a:pt x="16200" y="10687"/>
                    <a:pt x="10800" y="11587"/>
                    <a:pt x="10800" y="1248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38520" y="5356080"/>
              <a:ext cx="1104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ing seg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90760" y="571464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87320" y="572256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582800" y="572112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5422800">
              <a:off x="4472280" y="5701320"/>
              <a:ext cx="71280" cy="523800"/>
            </a:xfrm>
            <a:custGeom>
              <a:avLst/>
              <a:gdLst>
                <a:gd name="textAreaLeft" fmla="*/ 0 w 71280"/>
                <a:gd name="textAreaRight" fmla="*/ 25560 w 71280"/>
                <a:gd name="textAreaTop" fmla="*/ 13320 h 523800"/>
                <a:gd name="textAreaBottom" fmla="*/ 510480 h 52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76560" y="5716080"/>
              <a:ext cx="2736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17120" y="5713560"/>
              <a:ext cx="556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35760" y="5965560"/>
              <a:ext cx="564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a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5422800">
              <a:off x="4992480" y="5819400"/>
              <a:ext cx="96840" cy="344520"/>
            </a:xfrm>
            <a:custGeom>
              <a:avLst/>
              <a:gdLst>
                <a:gd name="textAreaLeft" fmla="*/ 0 w 96840"/>
                <a:gd name="textAreaRight" fmla="*/ 34920 w 96840"/>
                <a:gd name="textAreaTop" fmla="*/ 8640 h 344520"/>
                <a:gd name="textAreaBottom" fmla="*/ 335880 h 3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95040" y="6002280"/>
              <a:ext cx="9226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UT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untransla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io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5216040" y="5891040"/>
              <a:ext cx="43668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05920" y="5919840"/>
              <a:ext cx="529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06040" y="5923080"/>
              <a:ext cx="529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6541920" y="5900760"/>
              <a:ext cx="239760" cy="141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5422800">
              <a:off x="7046640" y="5663880"/>
              <a:ext cx="73080" cy="577800"/>
            </a:xfrm>
            <a:custGeom>
              <a:avLst/>
              <a:gdLst>
                <a:gd name="textAreaLeft" fmla="*/ 0 w 73080"/>
                <a:gd name="textAreaRight" fmla="*/ 26280 w 73080"/>
                <a:gd name="textAreaTop" fmla="*/ 14760 h 577800"/>
                <a:gd name="textAreaBottom" fmla="*/ 563040 h 57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757"/>
                  </a:lnTo>
                  <a:cubicBezTo>
                    <a:pt x="10800" y="9657"/>
                    <a:pt x="16200" y="10557"/>
                    <a:pt x="21600" y="10557"/>
                  </a:cubicBezTo>
                  <a:cubicBezTo>
                    <a:pt x="16200" y="10557"/>
                    <a:pt x="10800" y="11457"/>
                    <a:pt x="10800" y="123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742800" y="5951520"/>
              <a:ext cx="9226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UT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untransla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io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5422800">
              <a:off x="7646040" y="5655240"/>
              <a:ext cx="74520" cy="578160"/>
            </a:xfrm>
            <a:custGeom>
              <a:avLst/>
              <a:gdLst>
                <a:gd name="textAreaLeft" fmla="*/ 0 w 74520"/>
                <a:gd name="textAreaRight" fmla="*/ 27000 w 74520"/>
                <a:gd name="textAreaTop" fmla="*/ 14760 h 578160"/>
                <a:gd name="textAreaBottom" fmla="*/ 563400 h 57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757"/>
                  </a:lnTo>
                  <a:cubicBezTo>
                    <a:pt x="10800" y="9657"/>
                    <a:pt x="16200" y="10557"/>
                    <a:pt x="21600" y="10557"/>
                  </a:cubicBezTo>
                  <a:cubicBezTo>
                    <a:pt x="16200" y="10557"/>
                    <a:pt x="10800" y="11457"/>
                    <a:pt x="10800" y="123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97720" y="5919840"/>
              <a:ext cx="556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ly-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50320" y="4429080"/>
              <a:ext cx="7351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hromatin change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10440" y="4719600"/>
              <a:ext cx="6285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ranscrip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47080" y="5019840"/>
              <a:ext cx="7365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NA process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12720" y="5413680"/>
              <a:ext cx="59040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grada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168280" y="5423040"/>
              <a:ext cx="5644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ransla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99520" y="5716440"/>
              <a:ext cx="7110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rotein processing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d degrada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21720" y="4108320"/>
              <a:ext cx="1020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eared 3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 prim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The Roles of Transcription Facto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initiate transcri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karyotic RNA polymerase requires the assistance of proteins called transcripti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nhancers and Specific Transcription Facto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ximal control el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located close to the promo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al control elements, groups of which are called enhanc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far away from a gene or even 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1448640" y="2295360"/>
            <a:ext cx="7491960" cy="4275360"/>
            <a:chOff x="1448640" y="2295360"/>
            <a:chExt cx="7491960" cy="4275360"/>
          </a:xfrm>
        </p:grpSpPr>
        <p:sp>
          <p:nvSpPr>
            <p:cNvPr id="384" name=""/>
            <p:cNvSpPr/>
            <p:nvPr/>
          </p:nvSpPr>
          <p:spPr>
            <a:xfrm>
              <a:off x="3621600" y="2295360"/>
              <a:ext cx="9151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tal contr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l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1"/>
            <a:stretch/>
          </p:blipFill>
          <p:spPr>
            <a:xfrm>
              <a:off x="3978360" y="2664000"/>
              <a:ext cx="4797360" cy="36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4210200" y="2544840"/>
              <a:ext cx="392040" cy="296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00520" y="2695680"/>
              <a:ext cx="47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36480" y="2562120"/>
              <a:ext cx="74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ctiva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4840200" y="2703600"/>
              <a:ext cx="341280" cy="9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5400000">
              <a:off x="4837680" y="2820240"/>
              <a:ext cx="60480" cy="325440"/>
            </a:xfrm>
            <a:custGeom>
              <a:avLst/>
              <a:gdLst>
                <a:gd name="textAreaLeft" fmla="*/ 0 w 60480"/>
                <a:gd name="textAreaRight" fmla="*/ 21960 w 60480"/>
                <a:gd name="textAreaTop" fmla="*/ 8280 h 325440"/>
                <a:gd name="textAreaBottom" fmla="*/ 317160 h 32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63000" y="2960640"/>
              <a:ext cx="726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nhanc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6178400">
              <a:off x="7459560" y="2489040"/>
              <a:ext cx="101520" cy="555480"/>
            </a:xfrm>
            <a:custGeom>
              <a:avLst/>
              <a:gdLst>
                <a:gd name="textAreaLeft" fmla="*/ 0 w 101520"/>
                <a:gd name="textAreaRight" fmla="*/ 36720 w 101520"/>
                <a:gd name="textAreaTop" fmla="*/ 14400 h 555480"/>
                <a:gd name="textAreaBottom" fmla="*/ 541080 h 55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99280" y="2508120"/>
              <a:ext cx="704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mo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95320" y="2637000"/>
              <a:ext cx="49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5400000">
              <a:off x="7319880" y="2886120"/>
              <a:ext cx="60480" cy="193680"/>
            </a:xfrm>
            <a:custGeom>
              <a:avLst/>
              <a:gdLst>
                <a:gd name="textAreaLeft" fmla="*/ 0 w 60480"/>
                <a:gd name="textAreaRight" fmla="*/ 21960 w 60480"/>
                <a:gd name="textAreaTop" fmla="*/ 5040 h 193680"/>
                <a:gd name="textAreaBottom" fmla="*/ 18864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45280" y="2971800"/>
              <a:ext cx="507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46640" y="3171960"/>
              <a:ext cx="873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r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crip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c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561000" y="3683880"/>
              <a:ext cx="873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NA-bend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469200" y="3828600"/>
              <a:ext cx="13176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80320" y="3979800"/>
              <a:ext cx="11602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 o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diator protei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32720" y="4100400"/>
              <a:ext cx="173160" cy="60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29560" y="4500720"/>
              <a:ext cx="957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lymerase 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896240" y="5657760"/>
              <a:ext cx="957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lymerase 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7669080" y="5872320"/>
              <a:ext cx="260640" cy="117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722720" y="6194520"/>
              <a:ext cx="1015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NA synthes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385680" y="6173640"/>
              <a:ext cx="1158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crip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ion compl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62760" y="5260680"/>
              <a:ext cx="6498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hromatin chang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22880" y="5442120"/>
              <a:ext cx="59508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ranscrip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06320" y="5636880"/>
              <a:ext cx="57384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RNA process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39280" y="5885640"/>
              <a:ext cx="4701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degrad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09080" y="5886360"/>
              <a:ext cx="5310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ransla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527000" y="6069960"/>
              <a:ext cx="636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otein process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nd degrad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302080" y="3917880"/>
              <a:ext cx="1038240" cy="351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795480" y="2900520"/>
              <a:ext cx="1065240" cy="32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45280" y="3989520"/>
              <a:ext cx="1742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DNA-bending prote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rings the bound activa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oser to the promote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ther transcription factors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diator proteins, and R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lymerase are nearby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97200" y="4064040"/>
              <a:ext cx="162000" cy="127080"/>
            </a:xfrm>
            <a:prstGeom prst="ellipse">
              <a:avLst/>
            </a:prstGeom>
            <a:solidFill>
              <a:srgbClr val="00ccff"/>
            </a:solidFill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95960" y="4062240"/>
              <a:ext cx="0" cy="889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936880" y="3211560"/>
              <a:ext cx="17730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ctivator proteins bi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distal control ele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ed as an enhancer i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e DNA. This enhancer h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ree binding site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16080" y="3273480"/>
              <a:ext cx="162000" cy="129960"/>
            </a:xfrm>
            <a:prstGeom prst="ellipse">
              <a:avLst/>
            </a:prstGeom>
            <a:solidFill>
              <a:srgbClr val="00ccff"/>
            </a:solidFill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44880" y="3235320"/>
              <a:ext cx="1425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8640" y="5316480"/>
              <a:ext cx="21128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e activators bind 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ertain general transcrip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ctors and media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teins, helping them fo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 active transcrip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ion complex on the promote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79720" y="5388120"/>
              <a:ext cx="163440" cy="1285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522600" y="5330880"/>
              <a:ext cx="0" cy="100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3522600" y="5618160"/>
              <a:ext cx="394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08640" y="3889440"/>
              <a:ext cx="651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48400" y="5589720"/>
              <a:ext cx="66960" cy="58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ctiv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protein that binds to an enhancer and stimulates transcription of a 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17440" y="6229800"/>
            <a:ext cx="1538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9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6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specific transcription factors function as repress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hibit expression of a particular 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activators and repress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 indirectly by influencing chromati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mbinatorial Control of Gene Activ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rticular combination of contro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ll be able to activate transcription only when the appropriate activator proteins are pre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87400" y="6228000"/>
            <a:ext cx="1766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9.7a,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3162240" y="2199600"/>
            <a:ext cx="2808000" cy="4364640"/>
            <a:chOff x="3162240" y="2199600"/>
            <a:chExt cx="2808000" cy="4364640"/>
          </a:xfrm>
        </p:grpSpPr>
        <p:pic>
          <p:nvPicPr>
            <p:cNvPr id="436" name="" descr=""/>
            <p:cNvPicPr/>
            <p:nvPr/>
          </p:nvPicPr>
          <p:blipFill>
            <a:blip r:embed="rId1"/>
            <a:stretch/>
          </p:blipFill>
          <p:spPr>
            <a:xfrm>
              <a:off x="3164040" y="2447640"/>
              <a:ext cx="2712960" cy="40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 rot="16182000">
              <a:off x="4191120" y="2268000"/>
              <a:ext cx="82080" cy="304920"/>
            </a:xfrm>
            <a:custGeom>
              <a:avLst/>
              <a:gdLst>
                <a:gd name="textAreaLeft" fmla="*/ 0 w 82080"/>
                <a:gd name="textAreaRight" fmla="*/ 29520 w 820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95560" y="2202480"/>
              <a:ext cx="6771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hanc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6182000">
              <a:off x="4768920" y="2252160"/>
              <a:ext cx="79200" cy="368280"/>
            </a:xfrm>
            <a:custGeom>
              <a:avLst/>
              <a:gdLst>
                <a:gd name="textAreaLeft" fmla="*/ 0 w 79200"/>
                <a:gd name="textAreaRight" fmla="*/ 28440 w 79200"/>
                <a:gd name="textAreaTop" fmla="*/ 9360 h 368280"/>
                <a:gd name="textAreaBottom" fmla="*/ 35892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88840" y="2199600"/>
              <a:ext cx="6559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mo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3738600" y="2538360"/>
              <a:ext cx="341280" cy="223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3754080" y="2761920"/>
              <a:ext cx="330120" cy="20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198600" y="2607120"/>
              <a:ext cx="651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lemen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94760" y="2592720"/>
              <a:ext cx="599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lbum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4964040" y="2570040"/>
              <a:ext cx="108000" cy="9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753800" y="3042000"/>
              <a:ext cx="659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rystall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5016600" y="3009600"/>
              <a:ext cx="46080" cy="9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75400" y="3380400"/>
              <a:ext cx="640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ver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29440" y="3380400"/>
              <a:ext cx="640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ens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70480" y="4039200"/>
              <a:ext cx="678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vailab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ctivato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65840" y="4045320"/>
              <a:ext cx="678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vailab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ctivato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745440" y="5220000"/>
              <a:ext cx="71676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lbum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pres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88320" y="5132520"/>
              <a:ext cx="71676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lbum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 no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pres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592080" y="6027480"/>
              <a:ext cx="860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rystallin ge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 express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87440" y="6056280"/>
              <a:ext cx="860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rystallin ge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ress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64040" y="6389640"/>
              <a:ext cx="136440" cy="110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62240" y="6381720"/>
              <a:ext cx="136440" cy="112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3840" bIns="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41760" y="6352920"/>
              <a:ext cx="204840" cy="169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55120" y="6319440"/>
              <a:ext cx="73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ver ce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85400" y="6317640"/>
              <a:ext cx="726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ens ce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Coordinately Controlled Gen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ke the genes of a prokaryotic oper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ely controlled eukaryotic genes each have a promoter and contro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ame regulatory sequ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ommon to all the genes of a group, enabling recognition by the same specific transcripti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chanisms of Post-Transcriptional Regu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increasing number of examp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being found of regulatory mechanisms that operate at various stages after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RNA Processing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lternative RNA spl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 mRNA molecules are produced from the same primary transcript, depending on which RNA segments are treated as exons and which as int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63720" y="6228000"/>
            <a:ext cx="1538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9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955960" y="2938320"/>
            <a:ext cx="3124080" cy="3616920"/>
            <a:chOff x="2955960" y="2938320"/>
            <a:chExt cx="3124080" cy="3616920"/>
          </a:xfrm>
        </p:grpSpPr>
        <p:pic>
          <p:nvPicPr>
            <p:cNvPr id="469" name="" descr=""/>
            <p:cNvPicPr/>
            <p:nvPr/>
          </p:nvPicPr>
          <p:blipFill>
            <a:blip r:embed="rId1"/>
            <a:stretch/>
          </p:blipFill>
          <p:spPr>
            <a:xfrm>
              <a:off x="2955960" y="2938320"/>
              <a:ext cx="3124080" cy="35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3216600" y="3164040"/>
              <a:ext cx="7351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hromatin change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305880" y="3414600"/>
              <a:ext cx="55224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ranscrip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59440" y="3678120"/>
              <a:ext cx="64368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RNA processing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058920" y="4029120"/>
              <a:ext cx="5187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egrada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603240" y="4033800"/>
              <a:ext cx="4989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ransla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508920" y="4276800"/>
              <a:ext cx="7110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rotein processing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d degrada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28720" y="4406400"/>
              <a:ext cx="505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86120" y="4619520"/>
              <a:ext cx="0" cy="247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3793680" y="4619520"/>
              <a:ext cx="891720" cy="247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4111560" y="4630680"/>
              <a:ext cx="56304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82880" y="4618080"/>
              <a:ext cx="348840" cy="247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690800" y="4616280"/>
              <a:ext cx="917280" cy="24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063240" y="4839840"/>
              <a:ext cx="4258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45240" y="5475600"/>
              <a:ext cx="65916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cr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058200" y="6310440"/>
              <a:ext cx="556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35720" y="5959080"/>
              <a:ext cx="843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NA splic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83520" y="59706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mRNA Degrad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ife span of mRNA molecules in the cytopla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important factor in determining the protein synthesis in a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determined in part by sequences in the leader and trailer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th prokaryotes and eukary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alter their patterns of gene expression in response to changes in environment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NA interference by single-stranded microRNAs (miRN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lead to degradation of an mRNA or block its trans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55600" y="6240600"/>
            <a:ext cx="1538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9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450840" y="2714400"/>
            <a:ext cx="2491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658880" y="3657600"/>
            <a:ext cx="6979680" cy="2882160"/>
            <a:chOff x="1658880" y="3657600"/>
            <a:chExt cx="6979680" cy="2882160"/>
          </a:xfrm>
        </p:grpSpPr>
        <p:pic>
          <p:nvPicPr>
            <p:cNvPr id="494" name="" descr=""/>
            <p:cNvPicPr/>
            <p:nvPr/>
          </p:nvPicPr>
          <p:blipFill>
            <a:blip r:embed="rId1"/>
            <a:stretch/>
          </p:blipFill>
          <p:spPr>
            <a:xfrm>
              <a:off x="1744560" y="3657600"/>
              <a:ext cx="682632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7535160" y="3800520"/>
              <a:ext cx="7351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hromatin change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632000" y="4005360"/>
              <a:ext cx="55224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ranscrip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576200" y="4194000"/>
              <a:ext cx="64368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RNA processing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75680" y="4448160"/>
              <a:ext cx="5187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egrada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48440" y="4459320"/>
              <a:ext cx="4989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ransla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04160" y="4652280"/>
              <a:ext cx="597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rotein process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and degrad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93600" y="5290560"/>
              <a:ext cx="1306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gradation of mR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87480" y="6141600"/>
              <a:ext cx="1351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lockage of transl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99960" y="5758920"/>
              <a:ext cx="8845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arget mR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81480" y="557532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R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63560" y="4639680"/>
              <a:ext cx="613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ple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170800" y="5184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c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658880" y="6172920"/>
              <a:ext cx="68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ydrog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48120" y="4805280"/>
              <a:ext cx="266760" cy="26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2401920" y="5116680"/>
              <a:ext cx="297000" cy="13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76400" y="5934240"/>
              <a:ext cx="0" cy="31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 flipH="1">
            <a:off x="4614480" y="5527800"/>
            <a:ext cx="127080" cy="9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426680" y="2630160"/>
            <a:ext cx="947160" cy="2386440"/>
            <a:chOff x="1426680" y="2630160"/>
            <a:chExt cx="947160" cy="2386440"/>
          </a:xfrm>
        </p:grpSpPr>
        <p:grpSp>
          <p:nvGrpSpPr>
            <p:cNvPr id="513" name=""/>
            <p:cNvGrpSpPr/>
            <p:nvPr/>
          </p:nvGrpSpPr>
          <p:grpSpPr>
            <a:xfrm>
              <a:off x="1426680" y="2630160"/>
              <a:ext cx="947160" cy="2386440"/>
              <a:chOff x="1426680" y="2630160"/>
              <a:chExt cx="947160" cy="2386440"/>
            </a:xfrm>
          </p:grpSpPr>
          <p:sp>
            <p:nvSpPr>
              <p:cNvPr id="514" name=""/>
              <p:cNvSpPr/>
              <p:nvPr/>
            </p:nvSpPr>
            <p:spPr>
              <a:xfrm>
                <a:off x="1426680" y="2634480"/>
                <a:ext cx="947160" cy="10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he micro-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 (miRNA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ecursor fold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ack on itself,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eld togeth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y hydroge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onds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5" name=""/>
              <p:cNvGrpSpPr/>
              <p:nvPr/>
            </p:nvGrpSpPr>
            <p:grpSpPr>
              <a:xfrm>
                <a:off x="1443960" y="2630160"/>
                <a:ext cx="249120" cy="229680"/>
                <a:chOff x="1443960" y="2630160"/>
                <a:chExt cx="249120" cy="22968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1511280" y="2685960"/>
                  <a:ext cx="127080" cy="127080"/>
                </a:xfrm>
                <a:prstGeom prst="ellipse">
                  <a:avLst/>
                </a:prstGeom>
                <a:solidFill>
                  <a:srgbClr val="00cc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443960" y="2630160"/>
                  <a:ext cx="24912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8" name=""/>
              <p:cNvSpPr/>
              <p:nvPr/>
            </p:nvSpPr>
            <p:spPr>
              <a:xfrm flipH="1">
                <a:off x="1995120" y="3699000"/>
                <a:ext cx="3240" cy="1317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1500120" y="3689280"/>
              <a:ext cx="763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477160" y="2669760"/>
            <a:ext cx="1157400" cy="2391120"/>
            <a:chOff x="2477160" y="2669760"/>
            <a:chExt cx="1157400" cy="2391120"/>
          </a:xfrm>
        </p:grpSpPr>
        <p:grpSp>
          <p:nvGrpSpPr>
            <p:cNvPr id="521" name=""/>
            <p:cNvGrpSpPr/>
            <p:nvPr/>
          </p:nvGrpSpPr>
          <p:grpSpPr>
            <a:xfrm>
              <a:off x="2477160" y="2669760"/>
              <a:ext cx="1157400" cy="915480"/>
              <a:chOff x="2477160" y="2669760"/>
              <a:chExt cx="1157400" cy="915480"/>
            </a:xfrm>
          </p:grpSpPr>
          <p:sp>
            <p:nvSpPr>
              <p:cNvPr id="522" name=""/>
              <p:cNvSpPr/>
              <p:nvPr/>
            </p:nvSpPr>
            <p:spPr>
              <a:xfrm>
                <a:off x="2496240" y="2715840"/>
                <a:ext cx="2491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477160" y="2669760"/>
                <a:ext cx="1157400" cy="9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n enzym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alled Dicer mov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long the double-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tranded RNA,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utting it int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horter segments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4" name=""/>
              <p:cNvGrpSpPr/>
              <p:nvPr/>
            </p:nvGrpSpPr>
            <p:grpSpPr>
              <a:xfrm>
                <a:off x="2502720" y="2679480"/>
                <a:ext cx="249120" cy="229680"/>
                <a:chOff x="2502720" y="2679480"/>
                <a:chExt cx="249120" cy="22968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2570040" y="2735280"/>
                  <a:ext cx="127080" cy="127080"/>
                </a:xfrm>
                <a:prstGeom prst="ellipse">
                  <a:avLst/>
                </a:prstGeom>
                <a:solidFill>
                  <a:srgbClr val="00cc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502720" y="2679480"/>
                  <a:ext cx="24912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flipH="1">
              <a:off x="2895480" y="3584520"/>
              <a:ext cx="147600" cy="147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60680" y="3575160"/>
              <a:ext cx="98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3739320" y="2648880"/>
            <a:ext cx="1230480" cy="2770920"/>
            <a:chOff x="3739320" y="2648880"/>
            <a:chExt cx="1230480" cy="2770920"/>
          </a:xfrm>
        </p:grpSpPr>
        <p:grpSp>
          <p:nvGrpSpPr>
            <p:cNvPr id="530" name=""/>
            <p:cNvGrpSpPr/>
            <p:nvPr/>
          </p:nvGrpSpPr>
          <p:grpSpPr>
            <a:xfrm>
              <a:off x="3739320" y="2648880"/>
              <a:ext cx="1230480" cy="2770920"/>
              <a:chOff x="3739320" y="2648880"/>
              <a:chExt cx="1230480" cy="2770920"/>
            </a:xfrm>
          </p:grpSpPr>
          <p:sp>
            <p:nvSpPr>
              <p:cNvPr id="531" name=""/>
              <p:cNvSpPr/>
              <p:nvPr/>
            </p:nvSpPr>
            <p:spPr>
              <a:xfrm>
                <a:off x="3739320" y="2648880"/>
                <a:ext cx="1230480" cy="10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ne strand o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ach short double-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tranded RNA i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egraded; the oth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trand (miRNA) the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ssociates with 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mplex of proteins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476600" y="3691080"/>
                <a:ext cx="382680" cy="172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833640" y="3691080"/>
                <a:ext cx="1100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3760200" y="2653920"/>
              <a:ext cx="249120" cy="229680"/>
              <a:chOff x="3760200" y="2653920"/>
              <a:chExt cx="249120" cy="229680"/>
            </a:xfrm>
          </p:grpSpPr>
          <p:sp>
            <p:nvSpPr>
              <p:cNvPr id="535" name=""/>
              <p:cNvSpPr/>
              <p:nvPr/>
            </p:nvSpPr>
            <p:spPr>
              <a:xfrm>
                <a:off x="3827520" y="2709720"/>
                <a:ext cx="127080" cy="127080"/>
              </a:xfrm>
              <a:prstGeom prst="ellipse">
                <a:avLst/>
              </a:prstGeom>
              <a:solidFill>
                <a:srgbClr val="00cc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760200" y="2653920"/>
                <a:ext cx="2491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7" name=""/>
          <p:cNvGrpSpPr/>
          <p:nvPr/>
        </p:nvGrpSpPr>
        <p:grpSpPr>
          <a:xfrm>
            <a:off x="5075280" y="2634840"/>
            <a:ext cx="1276200" cy="2892960"/>
            <a:chOff x="5075280" y="2634840"/>
            <a:chExt cx="1276200" cy="2892960"/>
          </a:xfrm>
        </p:grpSpPr>
        <p:sp>
          <p:nvSpPr>
            <p:cNvPr id="538" name=""/>
            <p:cNvSpPr/>
            <p:nvPr/>
          </p:nvSpPr>
          <p:spPr>
            <a:xfrm>
              <a:off x="5075280" y="2642760"/>
              <a:ext cx="127620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he bou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RNA can base-pai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ith any targ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RNA that contai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he complement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quenc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5095080" y="2634840"/>
              <a:ext cx="249120" cy="229680"/>
              <a:chOff x="5095080" y="2634840"/>
              <a:chExt cx="249120" cy="229680"/>
            </a:xfrm>
          </p:grpSpPr>
          <p:sp>
            <p:nvSpPr>
              <p:cNvPr id="540" name=""/>
              <p:cNvSpPr/>
              <p:nvPr/>
            </p:nvSpPr>
            <p:spPr>
              <a:xfrm>
                <a:off x="5162400" y="2690640"/>
                <a:ext cx="127080" cy="127080"/>
              </a:xfrm>
              <a:prstGeom prst="ellipse">
                <a:avLst/>
              </a:prstGeom>
              <a:solidFill>
                <a:srgbClr val="00cc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095080" y="2634840"/>
                <a:ext cx="2491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5634000" y="3554280"/>
              <a:ext cx="330120" cy="197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173560" y="3554280"/>
              <a:ext cx="1100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408720" y="2658600"/>
            <a:ext cx="1375200" cy="3162600"/>
            <a:chOff x="6408720" y="2658600"/>
            <a:chExt cx="1375200" cy="3162600"/>
          </a:xfrm>
        </p:grpSpPr>
        <p:sp>
          <p:nvSpPr>
            <p:cNvPr id="545" name=""/>
            <p:cNvSpPr/>
            <p:nvPr/>
          </p:nvSpPr>
          <p:spPr>
            <a:xfrm>
              <a:off x="6494400" y="3559320"/>
              <a:ext cx="12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6408720" y="2658600"/>
              <a:ext cx="1375200" cy="915480"/>
              <a:chOff x="6408720" y="2658600"/>
              <a:chExt cx="1375200" cy="915480"/>
            </a:xfrm>
          </p:grpSpPr>
          <p:sp>
            <p:nvSpPr>
              <p:cNvPr id="547" name=""/>
              <p:cNvSpPr/>
              <p:nvPr/>
            </p:nvSpPr>
            <p:spPr>
              <a:xfrm>
                <a:off x="6408720" y="2658600"/>
                <a:ext cx="1375200" cy="9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he miRNA-protei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mplex prevents gen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xpression either b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egrading the targe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RNA or by block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ts translation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8" name=""/>
              <p:cNvGrpSpPr/>
              <p:nvPr/>
            </p:nvGrpSpPr>
            <p:grpSpPr>
              <a:xfrm>
                <a:off x="6444360" y="2665080"/>
                <a:ext cx="249120" cy="229680"/>
                <a:chOff x="6444360" y="2665080"/>
                <a:chExt cx="249120" cy="22968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511680" y="2720880"/>
                  <a:ext cx="127080" cy="127080"/>
                </a:xfrm>
                <a:prstGeom prst="ellipse">
                  <a:avLst/>
                </a:prstGeom>
                <a:solidFill>
                  <a:srgbClr val="00cc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444360" y="2665080"/>
                  <a:ext cx="24912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1" name=""/>
            <p:cNvSpPr/>
            <p:nvPr/>
          </p:nvSpPr>
          <p:spPr>
            <a:xfrm>
              <a:off x="6718320" y="3554280"/>
              <a:ext cx="693720" cy="226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734160" y="3564000"/>
              <a:ext cx="585720" cy="156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Initiation of Trans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nitiation of translation of selecte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R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blocked by regulatory proteins that bind to specific sequences or structures of the 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ernatively, translation of all the mRNA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 c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regulated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Protein Processing and Degrad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ter trans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types of protein processing, including cleavage and the addition of chemical groups, are subject to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a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giant protein complexes that bind protein molecules and degrade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46240" y="6251760"/>
            <a:ext cx="1538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9.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609480" y="2971800"/>
            <a:ext cx="7554960" cy="3272040"/>
            <a:chOff x="609480" y="2971800"/>
            <a:chExt cx="7554960" cy="3272040"/>
          </a:xfrm>
        </p:grpSpPr>
        <p:pic>
          <p:nvPicPr>
            <p:cNvPr id="561" name="" descr=""/>
            <p:cNvPicPr/>
            <p:nvPr/>
          </p:nvPicPr>
          <p:blipFill>
            <a:blip r:embed="rId1"/>
            <a:stretch/>
          </p:blipFill>
          <p:spPr>
            <a:xfrm>
              <a:off x="609480" y="2971800"/>
              <a:ext cx="7554960" cy="287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"/>
            <p:cNvGrpSpPr/>
            <p:nvPr/>
          </p:nvGrpSpPr>
          <p:grpSpPr>
            <a:xfrm>
              <a:off x="675000" y="3241800"/>
              <a:ext cx="7444080" cy="3002040"/>
              <a:chOff x="675000" y="3241800"/>
              <a:chExt cx="7444080" cy="3002040"/>
            </a:xfrm>
          </p:grpSpPr>
          <p:sp>
            <p:nvSpPr>
              <p:cNvPr id="563" name=""/>
              <p:cNvSpPr/>
              <p:nvPr/>
            </p:nvSpPr>
            <p:spPr>
              <a:xfrm>
                <a:off x="801720" y="3241800"/>
                <a:ext cx="84960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hromatin change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904320" y="3540240"/>
                <a:ext cx="6285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56440" y="3843360"/>
                <a:ext cx="7365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NA processin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75000" y="4273560"/>
                <a:ext cx="5187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mRNA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egradatio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261800" y="4260960"/>
                <a:ext cx="5644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191600" y="4560840"/>
                <a:ext cx="7110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Protein processing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and degradatio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850480" y="4168800"/>
                <a:ext cx="6742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biquiti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79640" y="5478480"/>
                <a:ext cx="89388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tein t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e degrad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676680" y="5481720"/>
                <a:ext cx="8571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biquinat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tei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371480" y="4494240"/>
                <a:ext cx="8661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teaso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659640" y="4106880"/>
                <a:ext cx="9730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teaso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nd ubiquiti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o be recycl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371720" y="5467320"/>
                <a:ext cx="74736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tei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agmen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peptide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56160" y="5846760"/>
                <a:ext cx="118008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tein entering 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teaso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6" name=""/>
          <p:cNvGrpSpPr/>
          <p:nvPr/>
        </p:nvGrpSpPr>
        <p:grpSpPr>
          <a:xfrm>
            <a:off x="1953360" y="2754360"/>
            <a:ext cx="2185200" cy="1577880"/>
            <a:chOff x="1953360" y="2754360"/>
            <a:chExt cx="2185200" cy="1577880"/>
          </a:xfrm>
        </p:grpSpPr>
        <p:grpSp>
          <p:nvGrpSpPr>
            <p:cNvPr id="577" name=""/>
            <p:cNvGrpSpPr/>
            <p:nvPr/>
          </p:nvGrpSpPr>
          <p:grpSpPr>
            <a:xfrm>
              <a:off x="1953360" y="2754360"/>
              <a:ext cx="2185200" cy="1577880"/>
              <a:chOff x="1953360" y="2754360"/>
              <a:chExt cx="2185200" cy="1577880"/>
            </a:xfrm>
          </p:grpSpPr>
          <p:sp>
            <p:nvSpPr>
              <p:cNvPr id="578" name=""/>
              <p:cNvSpPr/>
              <p:nvPr/>
            </p:nvSpPr>
            <p:spPr>
              <a:xfrm>
                <a:off x="1953360" y="2774520"/>
                <a:ext cx="215100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ultiple ubiquitin mol-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cules are attached to a protei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y enzymes in the cytosol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9" name=""/>
              <p:cNvGrpSpPr/>
              <p:nvPr/>
            </p:nvGrpSpPr>
            <p:grpSpPr>
              <a:xfrm>
                <a:off x="1958040" y="2754360"/>
                <a:ext cx="270360" cy="275040"/>
                <a:chOff x="1958040" y="2754360"/>
                <a:chExt cx="270360" cy="27504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2023920" y="2820960"/>
                  <a:ext cx="165240" cy="165240"/>
                </a:xfrm>
                <a:prstGeom prst="ellipse">
                  <a:avLst/>
                </a:prstGeom>
                <a:solidFill>
                  <a:srgbClr val="00cc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958040" y="275436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>
                <a:off x="2990880" y="3416400"/>
                <a:ext cx="1147680" cy="915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2065320" y="3406680"/>
              <a:ext cx="194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4061520" y="2604960"/>
            <a:ext cx="2398680" cy="1685880"/>
            <a:chOff x="4061520" y="2604960"/>
            <a:chExt cx="2398680" cy="1685880"/>
          </a:xfrm>
        </p:grpSpPr>
        <p:sp>
          <p:nvSpPr>
            <p:cNvPr id="585" name=""/>
            <p:cNvSpPr/>
            <p:nvPr/>
          </p:nvSpPr>
          <p:spPr>
            <a:xfrm>
              <a:off x="4172040" y="3405240"/>
              <a:ext cx="2171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97600" y="3414600"/>
              <a:ext cx="1087200" cy="87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4061520" y="2604960"/>
              <a:ext cx="2398680" cy="762120"/>
              <a:chOff x="4061520" y="2604960"/>
              <a:chExt cx="2398680" cy="762120"/>
            </a:xfrm>
          </p:grpSpPr>
          <p:sp>
            <p:nvSpPr>
              <p:cNvPr id="588" name=""/>
              <p:cNvSpPr/>
              <p:nvPr/>
            </p:nvSpPr>
            <p:spPr>
              <a:xfrm>
                <a:off x="4068360" y="2604960"/>
                <a:ext cx="239184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he ubiquitin-tagged protei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s recognized by a proteasome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hich unfolds the protein an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equesters it within a central cavity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9" name=""/>
              <p:cNvGrpSpPr/>
              <p:nvPr/>
            </p:nvGrpSpPr>
            <p:grpSpPr>
              <a:xfrm>
                <a:off x="4061520" y="2604960"/>
                <a:ext cx="270360" cy="275040"/>
                <a:chOff x="4061520" y="2604960"/>
                <a:chExt cx="270360" cy="27504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4108320" y="2651040"/>
                  <a:ext cx="165240" cy="165240"/>
                </a:xfrm>
                <a:prstGeom prst="ellipse">
                  <a:avLst/>
                </a:prstGeom>
                <a:solidFill>
                  <a:srgbClr val="00cc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061520" y="260496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92" name=""/>
          <p:cNvGrpSpPr/>
          <p:nvPr/>
        </p:nvGrpSpPr>
        <p:grpSpPr>
          <a:xfrm>
            <a:off x="6465240" y="2440800"/>
            <a:ext cx="2224080" cy="2269440"/>
            <a:chOff x="6465240" y="2440800"/>
            <a:chExt cx="2224080" cy="2269440"/>
          </a:xfrm>
        </p:grpSpPr>
        <p:grpSp>
          <p:nvGrpSpPr>
            <p:cNvPr id="593" name=""/>
            <p:cNvGrpSpPr/>
            <p:nvPr/>
          </p:nvGrpSpPr>
          <p:grpSpPr>
            <a:xfrm>
              <a:off x="6465240" y="2440800"/>
              <a:ext cx="2224080" cy="1096920"/>
              <a:chOff x="6465240" y="2440800"/>
              <a:chExt cx="2224080" cy="1096920"/>
            </a:xfrm>
          </p:grpSpPr>
          <p:sp>
            <p:nvSpPr>
              <p:cNvPr id="594" name=""/>
              <p:cNvSpPr/>
              <p:nvPr/>
            </p:nvSpPr>
            <p:spPr>
              <a:xfrm>
                <a:off x="6465240" y="2440800"/>
                <a:ext cx="2224080" cy="10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nzymatic components of th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teasome cut the protein int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mall peptides, which can b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urther degraded by oth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nzymes in the cytosol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5" name=""/>
              <p:cNvGrpSpPr/>
              <p:nvPr/>
            </p:nvGrpSpPr>
            <p:grpSpPr>
              <a:xfrm>
                <a:off x="6471000" y="2448000"/>
                <a:ext cx="270360" cy="275040"/>
                <a:chOff x="6471000" y="2448000"/>
                <a:chExt cx="270360" cy="27504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6518160" y="2508120"/>
                  <a:ext cx="165240" cy="165240"/>
                </a:xfrm>
                <a:prstGeom prst="ellipse">
                  <a:avLst/>
                </a:prstGeom>
                <a:solidFill>
                  <a:srgbClr val="00ccff"/>
                </a:solidFill>
                <a:ln w="255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471000" y="244800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8" name=""/>
            <p:cNvSpPr/>
            <p:nvPr/>
          </p:nvSpPr>
          <p:spPr>
            <a:xfrm>
              <a:off x="6541920" y="3405240"/>
              <a:ext cx="193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65960" y="3414600"/>
              <a:ext cx="35388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19.3: Cancer results from genetic changes that affect cell cycle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ene regulation systems that go wrong during 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out to be the very same systems that play important roles in embryon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ypes of Genes Associated with Cancer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enes that normally regulate cell growth and division during the cell cy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genes for growth factors, their receptors, and the intracellular molecules of signaling path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Oncogenes and Proto-Oncogen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6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co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ancer-causing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o-onco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normal cellular genes that code for proteins that stimulate normal cell growth and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NA change that makes a proto-oncogene excessively 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erts it to an oncogene, which may promote excessive cell division and can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66760" y="6216840"/>
            <a:ext cx="1538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9.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389520" y="2814480"/>
            <a:ext cx="8763480" cy="3445200"/>
            <a:chOff x="389520" y="2814480"/>
            <a:chExt cx="8763480" cy="3445200"/>
          </a:xfrm>
        </p:grpSpPr>
        <p:grpSp>
          <p:nvGrpSpPr>
            <p:cNvPr id="610" name=""/>
            <p:cNvGrpSpPr/>
            <p:nvPr/>
          </p:nvGrpSpPr>
          <p:grpSpPr>
            <a:xfrm>
              <a:off x="389520" y="2814480"/>
              <a:ext cx="8763480" cy="3445200"/>
              <a:chOff x="389520" y="2814480"/>
              <a:chExt cx="8763480" cy="344520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389520" y="2814480"/>
                <a:ext cx="8763480" cy="3445200"/>
                <a:chOff x="389520" y="2814480"/>
                <a:chExt cx="8763480" cy="3445200"/>
              </a:xfrm>
            </p:grpSpPr>
            <p:pic>
              <p:nvPicPr>
                <p:cNvPr id="61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61840" y="3127320"/>
                  <a:ext cx="8291160" cy="2517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3" name=""/>
                <p:cNvSpPr/>
                <p:nvPr/>
              </p:nvSpPr>
              <p:spPr>
                <a:xfrm rot="16175400">
                  <a:off x="4855680" y="2828520"/>
                  <a:ext cx="74520" cy="601560"/>
                </a:xfrm>
                <a:custGeom>
                  <a:avLst/>
                  <a:gdLst>
                    <a:gd name="textAreaLeft" fmla="*/ 0 w 74520"/>
                    <a:gd name="textAreaRight" fmla="*/ 27000 w 74520"/>
                    <a:gd name="textAreaTop" fmla="*/ 15480 h 601560"/>
                    <a:gd name="textAreaBottom" fmla="*/ 586080 h 601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349160" y="2814480"/>
                  <a:ext cx="10843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oto-oncogen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739680" y="3147840"/>
                  <a:ext cx="4518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N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89520" y="3801960"/>
                  <a:ext cx="18781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ranslocation or transposition: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ene moved to new locus,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nder new control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3001320" y="3949560"/>
                  <a:ext cx="168480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ene amplification: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multiple copies of the gen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920920" y="3805200"/>
                  <a:ext cx="10263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oint mut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ithin a contro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le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754400" y="3881520"/>
                  <a:ext cx="10324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oint mut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ithin the gen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7828920" y="4684680"/>
                  <a:ext cx="7686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ncogen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6231960" y="4680000"/>
                  <a:ext cx="7686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ncogen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828040" y="5702400"/>
                  <a:ext cx="165096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ormal growth-stimulatin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otein in exces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7675920" y="5710320"/>
                  <a:ext cx="10843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yperactive o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egradation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sistant protei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3171960" y="5722920"/>
                  <a:ext cx="165096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ormal growth-stimulatin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otein in exces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85960" y="5722920"/>
                  <a:ext cx="165096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ormal growth-stimulatin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otein in exces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96360" y="4687920"/>
                  <a:ext cx="6908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omot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H="1">
                  <a:off x="891360" y="4548240"/>
                  <a:ext cx="448920" cy="253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8" name=""/>
              <p:cNvSpPr/>
              <p:nvPr/>
            </p:nvSpPr>
            <p:spPr>
              <a:xfrm flipH="1">
                <a:off x="6260400" y="4300560"/>
                <a:ext cx="101160" cy="150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9" name=""/>
            <p:cNvSpPr/>
            <p:nvPr/>
          </p:nvSpPr>
          <p:spPr>
            <a:xfrm flipH="1">
              <a:off x="8389080" y="4259160"/>
              <a:ext cx="15228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Tumor-Suppressor Gen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mor-suppressor 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de proteins that inhibit abnormal cell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Interference with Normal Cell-Signaling Pathway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proto-oncogenes and tumor suppressor 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de components of growth-stimulating and growth-inhibiting pathways,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19.1: Chromatin structure is based on successive levels of DNA pac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karyotic 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ecisely combined with a large amount of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karyotic chromos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an enormous amount of DNA relative to their condensed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3581280" y="2895480"/>
            <a:ext cx="4648320" cy="3598920"/>
          </a:xfrm>
          <a:prstGeom prst="rect">
            <a:avLst/>
          </a:prstGeom>
          <a:ln w="0">
            <a:noFill/>
          </a:ln>
        </p:spPr>
      </p:pic>
      <p:grpSp>
        <p:nvGrpSpPr>
          <p:cNvPr id="635" name=""/>
          <p:cNvGrpSpPr/>
          <p:nvPr/>
        </p:nvGrpSpPr>
        <p:grpSpPr>
          <a:xfrm>
            <a:off x="266760" y="2881440"/>
            <a:ext cx="7566840" cy="3684240"/>
            <a:chOff x="266760" y="2881440"/>
            <a:chExt cx="7566840" cy="3684240"/>
          </a:xfrm>
        </p:grpSpPr>
        <p:sp>
          <p:nvSpPr>
            <p:cNvPr id="636" name=""/>
            <p:cNvSpPr/>
            <p:nvPr/>
          </p:nvSpPr>
          <p:spPr>
            <a:xfrm>
              <a:off x="266760" y="6229800"/>
              <a:ext cx="1614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gure 19.12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971280" y="3556080"/>
              <a:ext cx="2557800" cy="1668240"/>
              <a:chOff x="971280" y="3556080"/>
              <a:chExt cx="2557800" cy="1668240"/>
            </a:xfrm>
          </p:grpSpPr>
          <p:sp>
            <p:nvSpPr>
              <p:cNvPr id="638" name=""/>
              <p:cNvSpPr/>
              <p:nvPr/>
            </p:nvSpPr>
            <p:spPr>
              <a:xfrm>
                <a:off x="971280" y="3556080"/>
                <a:ext cx="20660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95400" indent="-95400">
                  <a:lnSpc>
                    <a:spcPct val="100000"/>
                  </a:lnSpc>
                  <a:tabLst>
                    <a:tab algn="l" pos="0"/>
                    <a:tab algn="l" pos="954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(a) Cell cycle–stimulating pathway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217880" y="3671640"/>
                <a:ext cx="2311200" cy="155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his pathway is triggered by       a growt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actor that binds to      its receptor in th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lasma membrane. The signal is relayed to   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 G protein called Ras. Like all G proteins, Ra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s active when GTP is bound to it. Ras pass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he signal to      a series of protein kinases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he last kinase activates      a transcrip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ctivator that turns on one or more gene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or proteins that stimulate the cell cycle. If 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utation makes Ras or any other pathway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ponent abnormally active, excessive cel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ivision and cancer may result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629080" y="3746520"/>
                <a:ext cx="75960" cy="74520"/>
              </a:xfrm>
              <a:prstGeom prst="ellipse">
                <a:avLst/>
              </a:prstGeom>
              <a:solidFill>
                <a:srgbClr val="00cc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182680" y="3859200"/>
                <a:ext cx="77760" cy="76320"/>
              </a:xfrm>
              <a:prstGeom prst="ellipse">
                <a:avLst/>
              </a:prstGeom>
              <a:solidFill>
                <a:srgbClr val="00cc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7920" bIns="7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898640" y="4354560"/>
                <a:ext cx="76320" cy="76320"/>
              </a:xfrm>
              <a:prstGeom prst="ellipse">
                <a:avLst/>
              </a:prstGeom>
              <a:solidFill>
                <a:srgbClr val="00cc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7920" bIns="7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324240" y="3979800"/>
                <a:ext cx="77760" cy="76320"/>
              </a:xfrm>
              <a:prstGeom prst="ellipse">
                <a:avLst/>
              </a:prstGeom>
              <a:solidFill>
                <a:srgbClr val="00cc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7920" bIns="7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463840" y="4475160"/>
                <a:ext cx="77760" cy="74520"/>
              </a:xfrm>
              <a:prstGeom prst="ellipse">
                <a:avLst/>
              </a:prstGeom>
              <a:solidFill>
                <a:srgbClr val="00cc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 flipH="1">
              <a:off x="3733560" y="2971800"/>
              <a:ext cx="7596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61680" y="3328920"/>
              <a:ext cx="3420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58880" y="3116160"/>
              <a:ext cx="366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1080" y="3687840"/>
              <a:ext cx="366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07400" y="3871800"/>
              <a:ext cx="3420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550920" y="3062160"/>
              <a:ext cx="8236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eractiv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as prote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product o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ncogene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sues signa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n its ow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162560" y="4710240"/>
              <a:ext cx="6710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198120" y="5478480"/>
              <a:ext cx="9561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ne express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385680" y="5861520"/>
              <a:ext cx="7732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tein th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timu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 cell cy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22840" y="3914640"/>
              <a:ext cx="2239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724280" y="4025880"/>
              <a:ext cx="2239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73560" y="3784680"/>
              <a:ext cx="2239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282920" y="4000680"/>
              <a:ext cx="2239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095880" y="2881440"/>
              <a:ext cx="12956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UT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03560" y="4267080"/>
              <a:ext cx="0" cy="12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718160" y="3808440"/>
              <a:ext cx="2235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6646680" y="4876920"/>
              <a:ext cx="115560" cy="6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101640" y="5235480"/>
              <a:ext cx="399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5467320" y="3575160"/>
              <a:ext cx="144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284720" y="3898800"/>
              <a:ext cx="2239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as protein, encoded by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G protein that relays a signal from a growth factor receptor on the plasma membrane to a cascade of protein kin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3682800" y="4352760"/>
            <a:ext cx="707760" cy="214200"/>
            <a:chOff x="3682800" y="4352760"/>
            <a:chExt cx="707760" cy="214200"/>
          </a:xfrm>
        </p:grpSpPr>
        <p:grpSp>
          <p:nvGrpSpPr>
            <p:cNvPr id="668" name=""/>
            <p:cNvGrpSpPr/>
            <p:nvPr/>
          </p:nvGrpSpPr>
          <p:grpSpPr>
            <a:xfrm>
              <a:off x="3682800" y="4362480"/>
              <a:ext cx="227880" cy="183960"/>
              <a:chOff x="3682800" y="4362480"/>
              <a:chExt cx="227880" cy="183960"/>
            </a:xfrm>
          </p:grpSpPr>
          <p:sp>
            <p:nvSpPr>
              <p:cNvPr id="669" name=""/>
              <p:cNvSpPr/>
              <p:nvPr/>
            </p:nvSpPr>
            <p:spPr>
              <a:xfrm>
                <a:off x="3759120" y="4419360"/>
                <a:ext cx="76320" cy="76320"/>
              </a:xfrm>
              <a:prstGeom prst="ellipse">
                <a:avLst/>
              </a:prstGeom>
              <a:solidFill>
                <a:srgbClr val="00cc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682800" y="4362480"/>
                <a:ext cx="2278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1" name=""/>
            <p:cNvSpPr/>
            <p:nvPr/>
          </p:nvSpPr>
          <p:spPr>
            <a:xfrm>
              <a:off x="3792600" y="4352760"/>
              <a:ext cx="597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cept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5797080" y="4862880"/>
            <a:ext cx="1062720" cy="335880"/>
            <a:chOff x="5797080" y="4862880"/>
            <a:chExt cx="1062720" cy="335880"/>
          </a:xfrm>
        </p:grpSpPr>
        <p:sp>
          <p:nvSpPr>
            <p:cNvPr id="673" name=""/>
            <p:cNvSpPr/>
            <p:nvPr/>
          </p:nvSpPr>
          <p:spPr>
            <a:xfrm>
              <a:off x="5935680" y="4862880"/>
              <a:ext cx="924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crip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actor (activato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5797080" y="4876920"/>
              <a:ext cx="227880" cy="183960"/>
              <a:chOff x="5797080" y="4876920"/>
              <a:chExt cx="227880" cy="183960"/>
            </a:xfrm>
          </p:grpSpPr>
          <p:sp>
            <p:nvSpPr>
              <p:cNvPr id="675" name=""/>
              <p:cNvSpPr/>
              <p:nvPr/>
            </p:nvSpPr>
            <p:spPr>
              <a:xfrm>
                <a:off x="5873400" y="4933800"/>
                <a:ext cx="76320" cy="76320"/>
              </a:xfrm>
              <a:prstGeom prst="ellipse">
                <a:avLst/>
              </a:prstGeom>
              <a:solidFill>
                <a:srgbClr val="00cc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797080" y="4876920"/>
                <a:ext cx="2278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7" name=""/>
          <p:cNvGrpSpPr/>
          <p:nvPr/>
        </p:nvGrpSpPr>
        <p:grpSpPr>
          <a:xfrm>
            <a:off x="5041440" y="3409920"/>
            <a:ext cx="716040" cy="214200"/>
            <a:chOff x="5041440" y="3409920"/>
            <a:chExt cx="716040" cy="214200"/>
          </a:xfrm>
        </p:grpSpPr>
        <p:sp>
          <p:nvSpPr>
            <p:cNvPr id="678" name=""/>
            <p:cNvSpPr/>
            <p:nvPr/>
          </p:nvSpPr>
          <p:spPr>
            <a:xfrm>
              <a:off x="5153400" y="3409920"/>
              <a:ext cx="604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 prote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5041440" y="3422520"/>
              <a:ext cx="227880" cy="183960"/>
              <a:chOff x="5041440" y="3422520"/>
              <a:chExt cx="227880" cy="183960"/>
            </a:xfrm>
          </p:grpSpPr>
          <p:sp>
            <p:nvSpPr>
              <p:cNvPr id="680" name=""/>
              <p:cNvSpPr/>
              <p:nvPr/>
            </p:nvSpPr>
            <p:spPr>
              <a:xfrm>
                <a:off x="5117760" y="3479400"/>
                <a:ext cx="76320" cy="76320"/>
              </a:xfrm>
              <a:prstGeom prst="ellipse">
                <a:avLst/>
              </a:prstGeom>
              <a:solidFill>
                <a:srgbClr val="00cc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041440" y="3422520"/>
                <a:ext cx="2278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2" name=""/>
          <p:cNvGrpSpPr/>
          <p:nvPr/>
        </p:nvGrpSpPr>
        <p:grpSpPr>
          <a:xfrm>
            <a:off x="4838400" y="4248720"/>
            <a:ext cx="1072440" cy="457560"/>
            <a:chOff x="4838400" y="4248720"/>
            <a:chExt cx="1072440" cy="457560"/>
          </a:xfrm>
        </p:grpSpPr>
        <p:sp>
          <p:nvSpPr>
            <p:cNvPr id="683" name=""/>
            <p:cNvSpPr/>
            <p:nvPr/>
          </p:nvSpPr>
          <p:spPr>
            <a:xfrm>
              <a:off x="4973040" y="4248720"/>
              <a:ext cx="9378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tein kinas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phosphory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scade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4838400" y="4260960"/>
              <a:ext cx="227880" cy="183960"/>
              <a:chOff x="4838400" y="4260960"/>
              <a:chExt cx="227880" cy="183960"/>
            </a:xfrm>
          </p:grpSpPr>
          <p:sp>
            <p:nvSpPr>
              <p:cNvPr id="685" name=""/>
              <p:cNvSpPr/>
              <p:nvPr/>
            </p:nvSpPr>
            <p:spPr>
              <a:xfrm>
                <a:off x="4914720" y="4317840"/>
                <a:ext cx="76320" cy="76320"/>
              </a:xfrm>
              <a:prstGeom prst="ellipse">
                <a:avLst/>
              </a:prstGeom>
              <a:solidFill>
                <a:srgbClr val="00cc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838400" y="4260960"/>
                <a:ext cx="2278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"/>
          <p:cNvGrpSpPr/>
          <p:nvPr/>
        </p:nvGrpSpPr>
        <p:grpSpPr>
          <a:xfrm>
            <a:off x="3782880" y="2826000"/>
            <a:ext cx="613440" cy="335880"/>
            <a:chOff x="3782880" y="2826000"/>
            <a:chExt cx="613440" cy="335880"/>
          </a:xfrm>
        </p:grpSpPr>
        <p:sp>
          <p:nvSpPr>
            <p:cNvPr id="688" name=""/>
            <p:cNvSpPr/>
            <p:nvPr/>
          </p:nvSpPr>
          <p:spPr>
            <a:xfrm>
              <a:off x="3852720" y="2900520"/>
              <a:ext cx="76320" cy="75960"/>
            </a:xfrm>
            <a:prstGeom prst="ellipse">
              <a:avLst/>
            </a:prstGeom>
            <a:solidFill>
              <a:srgbClr val="00ccff"/>
            </a:solidFill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7920" bIns="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782880" y="2826000"/>
              <a:ext cx="61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Grow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5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 encodes a tumor-suppressor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is a specific transcription factor that promotes the synthesis of cell cycle–inhibiting prote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28600" y="6216840"/>
            <a:ext cx="1614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9.1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771480" y="3094200"/>
            <a:ext cx="7991640" cy="3319200"/>
            <a:chOff x="771480" y="3094200"/>
            <a:chExt cx="7991640" cy="3319200"/>
          </a:xfrm>
        </p:grpSpPr>
        <p:pic>
          <p:nvPicPr>
            <p:cNvPr id="694" name="" descr=""/>
            <p:cNvPicPr/>
            <p:nvPr/>
          </p:nvPicPr>
          <p:blipFill>
            <a:blip r:embed="rId1"/>
            <a:stretch/>
          </p:blipFill>
          <p:spPr>
            <a:xfrm>
              <a:off x="3276720" y="3094200"/>
              <a:ext cx="5486400" cy="33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3656160" y="4269240"/>
              <a:ext cx="396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gh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68840" y="4991760"/>
              <a:ext cx="4258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768440" y="3677040"/>
              <a:ext cx="93492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fective 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s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crip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actor, such 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53, canno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ctiva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crip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62920" y="3488400"/>
              <a:ext cx="1600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UT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34720" y="5748480"/>
              <a:ext cx="84636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tein tha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hibi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he cell cyc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771480" y="3101040"/>
              <a:ext cx="2675880" cy="1567440"/>
              <a:chOff x="771480" y="3101040"/>
              <a:chExt cx="2675880" cy="1567440"/>
            </a:xfrm>
          </p:grpSpPr>
          <p:sp>
            <p:nvSpPr>
              <p:cNvPr id="701" name=""/>
              <p:cNvSpPr/>
              <p:nvPr/>
            </p:nvSpPr>
            <p:spPr>
              <a:xfrm>
                <a:off x="979200" y="3204360"/>
                <a:ext cx="2468160" cy="14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athway,      DNA damage is an intracellula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 that is passed via      protein kinas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nd leads to activation of      p53. Activate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53 promotes transcription of the gene for 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tein that inhibits the cell cycle. Th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esulting suppression of cell division ensur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hat the damaged DNA is not replicated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utations causing deficiencies in an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athway component can contribute to th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evelopment of cancer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71480" y="3101040"/>
                <a:ext cx="23688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(b)  Cell cycle–inhibiting pathway.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n thi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600200" y="3288600"/>
                <a:ext cx="71280" cy="71280"/>
              </a:xfrm>
              <a:prstGeom prst="ellipse">
                <a:avLst/>
              </a:prstGeom>
              <a:solidFill>
                <a:srgbClr val="00cc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413080" y="3569760"/>
                <a:ext cx="71280" cy="70920"/>
              </a:xfrm>
              <a:prstGeom prst="ellipse">
                <a:avLst/>
              </a:prstGeom>
              <a:solidFill>
                <a:srgbClr val="00cc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80" bIns="4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362320" y="3436200"/>
                <a:ext cx="71280" cy="71280"/>
              </a:xfrm>
              <a:prstGeom prst="ellipse">
                <a:avLst/>
              </a:prstGeom>
              <a:solidFill>
                <a:srgbClr val="00cc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"/>
          <p:cNvSpPr/>
          <p:nvPr/>
        </p:nvSpPr>
        <p:spPr>
          <a:xfrm rot="16199400">
            <a:off x="5709240" y="3367800"/>
            <a:ext cx="106560" cy="819000"/>
          </a:xfrm>
          <a:custGeom>
            <a:avLst/>
            <a:gdLst>
              <a:gd name="textAreaLeft" fmla="*/ 0 w 106560"/>
              <a:gd name="textAreaRight" fmla="*/ 38520 w 106560"/>
              <a:gd name="textAreaTop" fmla="*/ 21240 h 819000"/>
              <a:gd name="textAreaBottom" fmla="*/ 797760 h 81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5087880" y="3495240"/>
            <a:ext cx="1051920" cy="229680"/>
            <a:chOff x="5087880" y="3495240"/>
            <a:chExt cx="1051920" cy="229680"/>
          </a:xfrm>
        </p:grpSpPr>
        <p:grpSp>
          <p:nvGrpSpPr>
            <p:cNvPr id="708" name=""/>
            <p:cNvGrpSpPr/>
            <p:nvPr/>
          </p:nvGrpSpPr>
          <p:grpSpPr>
            <a:xfrm>
              <a:off x="5153040" y="3495240"/>
              <a:ext cx="986760" cy="229680"/>
              <a:chOff x="5153040" y="3495240"/>
              <a:chExt cx="986760" cy="229680"/>
            </a:xfrm>
          </p:grpSpPr>
          <p:sp>
            <p:nvSpPr>
              <p:cNvPr id="709" name=""/>
              <p:cNvSpPr/>
              <p:nvPr/>
            </p:nvSpPr>
            <p:spPr>
              <a:xfrm>
                <a:off x="5153040" y="3564000"/>
                <a:ext cx="76320" cy="75960"/>
              </a:xfrm>
              <a:prstGeom prst="ellipse">
                <a:avLst/>
              </a:prstGeom>
              <a:solidFill>
                <a:srgbClr val="00ccff"/>
              </a:solidFill>
              <a:ln w="255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166720" y="3495240"/>
                <a:ext cx="97308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tein kinas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5087880" y="3495240"/>
              <a:ext cx="2336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5778360" y="4356720"/>
            <a:ext cx="723960" cy="504000"/>
            <a:chOff x="5778360" y="4356720"/>
            <a:chExt cx="723960" cy="504000"/>
          </a:xfrm>
        </p:grpSpPr>
        <p:sp>
          <p:nvSpPr>
            <p:cNvPr id="713" name=""/>
            <p:cNvSpPr/>
            <p:nvPr/>
          </p:nvSpPr>
          <p:spPr>
            <a:xfrm>
              <a:off x="5851440" y="4417920"/>
              <a:ext cx="76320" cy="76320"/>
            </a:xfrm>
            <a:prstGeom prst="ellipse">
              <a:avLst/>
            </a:prstGeom>
            <a:solidFill>
              <a:srgbClr val="00ccff"/>
            </a:solidFill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778360" y="4363920"/>
              <a:ext cx="2336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83120" y="4356720"/>
              <a:ext cx="50508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or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f p5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350040" y="44863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4251240" y="4714920"/>
            <a:ext cx="971280" cy="570960"/>
            <a:chOff x="4251240" y="4714920"/>
            <a:chExt cx="971280" cy="570960"/>
          </a:xfrm>
        </p:grpSpPr>
        <p:sp>
          <p:nvSpPr>
            <p:cNvPr id="718" name=""/>
            <p:cNvSpPr/>
            <p:nvPr/>
          </p:nvSpPr>
          <p:spPr>
            <a:xfrm>
              <a:off x="4327560" y="4995720"/>
              <a:ext cx="76320" cy="76320"/>
            </a:xfrm>
            <a:prstGeom prst="ellipse">
              <a:avLst/>
            </a:prstGeom>
            <a:solidFill>
              <a:srgbClr val="00ccff"/>
            </a:solidFill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4251240" y="4714920"/>
              <a:ext cx="971280" cy="570960"/>
              <a:chOff x="4251240" y="4714920"/>
              <a:chExt cx="971280" cy="570960"/>
            </a:xfrm>
          </p:grpSpPr>
          <p:sp>
            <p:nvSpPr>
              <p:cNvPr id="720" name=""/>
              <p:cNvSpPr/>
              <p:nvPr/>
            </p:nvSpPr>
            <p:spPr>
              <a:xfrm>
                <a:off x="4350240" y="4919040"/>
                <a:ext cx="872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damag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n genom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251240" y="4935240"/>
                <a:ext cx="23364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4495320" y="4714920"/>
                <a:ext cx="2286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tations that knock out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5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ead to excessive cell growth and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66840" y="4877280"/>
            <a:ext cx="161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9.12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2514600" y="3209760"/>
            <a:ext cx="6400800" cy="185580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/>
          <p:nvPr/>
        </p:nvSpPr>
        <p:spPr>
          <a:xfrm>
            <a:off x="2666880" y="3390840"/>
            <a:ext cx="6096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FFECTS OF MUT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330000" y="3749040"/>
            <a:ext cx="94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verexpress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335400" y="4496760"/>
            <a:ext cx="93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l cyc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verstimula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355720" y="4510800"/>
            <a:ext cx="89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creased c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121160" y="4492080"/>
            <a:ext cx="87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l cycle n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hib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075440" y="3820680"/>
            <a:ext cx="927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tein abs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6280" y="3330000"/>
            <a:ext cx="20574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ffects of mutations.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creased cell division, possibly leading to cancer, can result if the cell cycle is overstimulated, as in (a), or not inhibited when it normally would be, as in (b)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82240" y="3315960"/>
            <a:ext cx="325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Multistep Model of Cancer Develop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rmal cells are converted to cancer ce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accumulation of multiple mutations affecting proto-oncogenes and tumor-suppressor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multistep model for the development of colorectal 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55760" y="5245560"/>
            <a:ext cx="161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9.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368280" y="2044440"/>
            <a:ext cx="8411400" cy="3160800"/>
            <a:chOff x="368280" y="2044440"/>
            <a:chExt cx="8411400" cy="3160800"/>
          </a:xfrm>
        </p:grpSpPr>
        <p:grpSp>
          <p:nvGrpSpPr>
            <p:cNvPr id="741" name=""/>
            <p:cNvGrpSpPr/>
            <p:nvPr/>
          </p:nvGrpSpPr>
          <p:grpSpPr>
            <a:xfrm>
              <a:off x="368280" y="2044440"/>
              <a:ext cx="8411400" cy="3160800"/>
              <a:chOff x="368280" y="2044440"/>
              <a:chExt cx="8411400" cy="3160800"/>
            </a:xfrm>
          </p:grpSpPr>
          <p:pic>
            <p:nvPicPr>
              <p:cNvPr id="74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8280" y="2062080"/>
                <a:ext cx="8381880" cy="270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3" name=""/>
              <p:cNvSpPr/>
              <p:nvPr/>
            </p:nvSpPr>
            <p:spPr>
              <a:xfrm>
                <a:off x="1308960" y="2044440"/>
                <a:ext cx="584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l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985320" y="2219040"/>
                <a:ext cx="405000" cy="1147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981000" y="3877920"/>
                <a:ext cx="889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lon wa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62240" y="4743000"/>
                <a:ext cx="11361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rmal col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pithelial ce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828880" y="4747680"/>
                <a:ext cx="11527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mall benig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rowth (polyp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157720" y="4743000"/>
                <a:ext cx="14256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rger benig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rowth (adenom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498800" y="4747680"/>
                <a:ext cx="12808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alignant tum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carcinom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1292040" y="4108320"/>
              <a:ext cx="0" cy="32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4176000" y="3886200"/>
            <a:ext cx="1012680" cy="397080"/>
            <a:chOff x="4176000" y="3886200"/>
            <a:chExt cx="1012680" cy="397080"/>
          </a:xfrm>
        </p:grpSpPr>
        <p:sp>
          <p:nvSpPr>
            <p:cNvPr id="752" name=""/>
            <p:cNvSpPr/>
            <p:nvPr/>
          </p:nvSpPr>
          <p:spPr>
            <a:xfrm>
              <a:off x="4224240" y="3951360"/>
              <a:ext cx="122400" cy="120600"/>
            </a:xfrm>
            <a:prstGeom prst="ellipse">
              <a:avLst/>
            </a:prstGeom>
            <a:solidFill>
              <a:srgbClr val="00ccff"/>
            </a:solidFill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176000" y="3886200"/>
              <a:ext cx="1012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Activation o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ra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oncogen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4151520" y="4495680"/>
            <a:ext cx="812880" cy="701640"/>
            <a:chOff x="4151520" y="4495680"/>
            <a:chExt cx="812880" cy="701640"/>
          </a:xfrm>
        </p:grpSpPr>
        <p:sp>
          <p:nvSpPr>
            <p:cNvPr id="755" name=""/>
            <p:cNvSpPr/>
            <p:nvPr/>
          </p:nvSpPr>
          <p:spPr>
            <a:xfrm>
              <a:off x="4219560" y="4556160"/>
              <a:ext cx="122400" cy="120600"/>
            </a:xfrm>
            <a:prstGeom prst="ellipse">
              <a:avLst/>
            </a:prstGeom>
            <a:solidFill>
              <a:srgbClr val="00ccff"/>
            </a:solidFill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151520" y="4495680"/>
              <a:ext cx="812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Loss o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umor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ppress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DCC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6415560" y="3772080"/>
            <a:ext cx="1178640" cy="549360"/>
            <a:chOff x="6415560" y="3772080"/>
            <a:chExt cx="1178640" cy="549360"/>
          </a:xfrm>
        </p:grpSpPr>
        <p:sp>
          <p:nvSpPr>
            <p:cNvPr id="758" name=""/>
            <p:cNvSpPr/>
            <p:nvPr/>
          </p:nvSpPr>
          <p:spPr>
            <a:xfrm>
              <a:off x="6485040" y="3841560"/>
              <a:ext cx="120600" cy="120600"/>
            </a:xfrm>
            <a:prstGeom prst="ellipse">
              <a:avLst/>
            </a:prstGeom>
            <a:solidFill>
              <a:srgbClr val="00ccff"/>
            </a:solidFill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15560" y="3772080"/>
              <a:ext cx="11786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Loss o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umor-suppress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5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6499440" y="4495680"/>
            <a:ext cx="876960" cy="397080"/>
            <a:chOff x="6499440" y="4495680"/>
            <a:chExt cx="876960" cy="397080"/>
          </a:xfrm>
        </p:grpSpPr>
        <p:sp>
          <p:nvSpPr>
            <p:cNvPr id="761" name=""/>
            <p:cNvSpPr/>
            <p:nvPr/>
          </p:nvSpPr>
          <p:spPr>
            <a:xfrm>
              <a:off x="6554880" y="4560840"/>
              <a:ext cx="120600" cy="120600"/>
            </a:xfrm>
            <a:prstGeom prst="ellipse">
              <a:avLst/>
            </a:prstGeom>
            <a:solidFill>
              <a:srgbClr val="00ccff"/>
            </a:solidFill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499440" y="4495680"/>
              <a:ext cx="876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Additi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ut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1809720" y="3632040"/>
            <a:ext cx="1134720" cy="701640"/>
            <a:chOff x="1809720" y="3632040"/>
            <a:chExt cx="1134720" cy="701640"/>
          </a:xfrm>
        </p:grpSpPr>
        <p:sp>
          <p:nvSpPr>
            <p:cNvPr id="764" name=""/>
            <p:cNvSpPr/>
            <p:nvPr/>
          </p:nvSpPr>
          <p:spPr>
            <a:xfrm>
              <a:off x="1887480" y="3692520"/>
              <a:ext cx="122040" cy="120600"/>
            </a:xfrm>
            <a:prstGeom prst="ellipse">
              <a:avLst/>
            </a:prstGeom>
            <a:solidFill>
              <a:srgbClr val="00ccff"/>
            </a:solidFill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809720" y="3632040"/>
              <a:ext cx="11347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Loss of tumor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ppress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PC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(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ther)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rtain viru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cancer by integration of viral DNA into a cell’s ge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Inherited Predisposition to Cancer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ividuals who inherit a mutant oncogene or tumor-suppressor alle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n increased risk of developing certain types of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19.4: Eukaryotic genomes can have many noncoding DNA sequences in addition to 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ulk of most eukaryotic gen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noncoding DNA sequences, often described in the past as “junk DN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ever, much evidence is accumula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noncoding DNA plays important roles in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Relationship Between Genomic Composition and Organismal Complex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4920" y="1209600"/>
            <a:ext cx="853416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ed with prokaryotic genomes, the genomes of eukary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are lar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longer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a much greater amount of noncoding DNA both associated with genes and between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at the complete sequence of the human genome i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know what makes up most of the 98.5% that does not code for proteins, rRNAs, or tR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6760" y="6218640"/>
            <a:ext cx="1614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9.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2819880" y="2639880"/>
            <a:ext cx="3352320" cy="3890520"/>
            <a:chOff x="2819880" y="2639880"/>
            <a:chExt cx="3352320" cy="3890520"/>
          </a:xfrm>
        </p:grpSpPr>
        <p:sp>
          <p:nvSpPr>
            <p:cNvPr id="778" name=""/>
            <p:cNvSpPr/>
            <p:nvPr/>
          </p:nvSpPr>
          <p:spPr>
            <a:xfrm>
              <a:off x="3918600" y="2639880"/>
              <a:ext cx="1955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ons (regions of genes cod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r protein, rRNA, tRNA) (1.5%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9" name="" descr=""/>
            <p:cNvPicPr/>
            <p:nvPr/>
          </p:nvPicPr>
          <p:blipFill>
            <a:blip r:embed="rId1"/>
            <a:stretch/>
          </p:blipFill>
          <p:spPr>
            <a:xfrm>
              <a:off x="3195720" y="3187800"/>
              <a:ext cx="2976480" cy="29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4879800" y="29988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38960" y="3552840"/>
              <a:ext cx="9090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etit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NA th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clud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s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le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d rela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quen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44%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085000" y="3841920"/>
              <a:ext cx="8175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rons 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ulato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quen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24%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092560" y="4762440"/>
              <a:ext cx="8251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iq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ncod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NA (15%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24320" y="5082840"/>
              <a:ext cx="8449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petitiv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nrelated 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posab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lemen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about 15%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19880" y="5691240"/>
              <a:ext cx="913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lu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ele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10%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3252960" y="5456160"/>
              <a:ext cx="32544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23880" y="6096960"/>
              <a:ext cx="1067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imple sequen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NA (3%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3848040" y="5842080"/>
              <a:ext cx="32400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332600" y="6163560"/>
              <a:ext cx="1171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arge-segm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uplications (5-6%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587840" y="5952960"/>
              <a:ext cx="1800" cy="260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Nucleosomes, or “Beads on a String”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ins called his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responsible for the first level of DNA packing in chroma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 tightly to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ssociation of DNA and his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ms to remain intact throughout the cell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ransposable Elements and Related Sequenc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irst evidence for wandering DNA seg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 from geneticist Barbara McClintock’s breeding experiments with Indian 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860400" y="6216840"/>
            <a:ext cx="1614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9.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2209680" y="2855880"/>
            <a:ext cx="487692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"/>
          <p:cNvGrpSpPr/>
          <p:nvPr/>
        </p:nvGrpSpPr>
        <p:grpSpPr>
          <a:xfrm>
            <a:off x="2449440" y="3368880"/>
            <a:ext cx="4240440" cy="3137040"/>
            <a:chOff x="2449440" y="3368880"/>
            <a:chExt cx="4240440" cy="3137040"/>
          </a:xfrm>
        </p:grpSpPr>
        <p:pic>
          <p:nvPicPr>
            <p:cNvPr id="796" name="" descr=""/>
            <p:cNvPicPr/>
            <p:nvPr/>
          </p:nvPicPr>
          <p:blipFill>
            <a:blip r:embed="rId1"/>
            <a:stretch/>
          </p:blipFill>
          <p:spPr>
            <a:xfrm>
              <a:off x="2986200" y="3476520"/>
              <a:ext cx="3703680" cy="28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4217040" y="3486240"/>
              <a:ext cx="722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s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349600" y="3368880"/>
              <a:ext cx="747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w copy o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s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907440" y="3837240"/>
              <a:ext cx="722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s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 copi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000240" y="3757680"/>
              <a:ext cx="9500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NA of gen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680080" y="3965400"/>
              <a:ext cx="5767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er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081680" y="4421160"/>
              <a:ext cx="1018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obile transpos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449440" y="4568760"/>
              <a:ext cx="368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a) Transposon movement (“copy-and-paste” mechanism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128480" y="4824360"/>
              <a:ext cx="937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trotranspos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378040" y="4702320"/>
              <a:ext cx="89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w copy o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trotranspos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953080" y="5076720"/>
              <a:ext cx="1136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NA of geno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171320" y="5348160"/>
              <a:ext cx="399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60080" y="5544000"/>
              <a:ext cx="770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ver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cripta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679840" y="6261120"/>
              <a:ext cx="2073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b) Retrotransposon mov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662800" y="5533920"/>
              <a:ext cx="5767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er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Movement of Transposons and Retrotransposon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karyotic transposable elements are of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sons, which move within a genome by means of a DNA intermedi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rotransposons, which move by means of an RNA intermedi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28600" y="6228000"/>
            <a:ext cx="191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9.16a,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Sequences Related to Transposable Element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copies of transposable elements and sequences related to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cattered throughout the eukaryotic ge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humans and other prim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 portion of transposable element–related DNA consists of a family of similar sequence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u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Other Repetitive DNA, Including Simple Sequence DNA</a:t>
            </a:r>
            <a:endParaRPr b="1" lang="en-US" sz="27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 sequence 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many copies of tandemly repeated short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ommon in centromeres and telomeres, where it probably plays structural roles in the chrom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Genes and Multigene Famili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ukaryotic 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present in one copy per haploid set of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t of the gen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in multigene families, collections of identical or very similar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"/>
          <p:cNvGrpSpPr/>
          <p:nvPr/>
        </p:nvGrpSpPr>
        <p:grpSpPr>
          <a:xfrm>
            <a:off x="2571120" y="2776320"/>
            <a:ext cx="4058280" cy="3724560"/>
            <a:chOff x="2571120" y="2776320"/>
            <a:chExt cx="4058280" cy="3724560"/>
          </a:xfrm>
        </p:grpSpPr>
        <p:grpSp>
          <p:nvGrpSpPr>
            <p:cNvPr id="821" name=""/>
            <p:cNvGrpSpPr/>
            <p:nvPr/>
          </p:nvGrpSpPr>
          <p:grpSpPr>
            <a:xfrm>
              <a:off x="2571120" y="2776320"/>
              <a:ext cx="4058280" cy="3724560"/>
              <a:chOff x="2571120" y="2776320"/>
              <a:chExt cx="4058280" cy="3724560"/>
            </a:xfrm>
          </p:grpSpPr>
          <p:pic>
            <p:nvPicPr>
              <p:cNvPr id="82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90920" y="2786040"/>
                <a:ext cx="4038480" cy="371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3" name=""/>
              <p:cNvSpPr/>
              <p:nvPr/>
            </p:nvSpPr>
            <p:spPr>
              <a:xfrm>
                <a:off x="3207600" y="2789280"/>
                <a:ext cx="5065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3028680" y="3000240"/>
                <a:ext cx="22860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171680" y="2776320"/>
                <a:ext cx="12535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NA transcrip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4724280" y="3016080"/>
                <a:ext cx="85680" cy="41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807080" y="3052800"/>
                <a:ext cx="82440" cy="37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662920" y="3686040"/>
                <a:ext cx="12715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n-transcrib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pac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5400000">
                <a:off x="4104720" y="3504960"/>
                <a:ext cx="152640" cy="30492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17640 h 304920"/>
                  <a:gd name="textAreaBottom" fmla="*/ 287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997"/>
                      <a:pt x="10800" y="3994"/>
                    </a:cubicBezTo>
                    <a:lnTo>
                      <a:pt x="10800" y="9618"/>
                    </a:lnTo>
                    <a:cubicBezTo>
                      <a:pt x="10800" y="11615"/>
                      <a:pt x="16200" y="13612"/>
                      <a:pt x="21600" y="13612"/>
                    </a:cubicBezTo>
                    <a:cubicBezTo>
                      <a:pt x="16200" y="13612"/>
                      <a:pt x="10800" y="15609"/>
                      <a:pt x="10800" y="17606"/>
                    </a:cubicBezTo>
                    <a:lnTo>
                      <a:pt x="10800" y="17606"/>
                    </a:lnTo>
                    <a:cubicBezTo>
                      <a:pt x="10800" y="19603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3895560" y="3738600"/>
                <a:ext cx="244800" cy="100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206600" y="3857760"/>
                <a:ext cx="1356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anscription uni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5400000">
                <a:off x="3375000" y="4344840"/>
                <a:ext cx="144360" cy="59544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5480 h 595440"/>
                  <a:gd name="textAreaBottom" fmla="*/ 579960 h 595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141720" y="4124160"/>
                <a:ext cx="304920" cy="444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5400000">
                <a:off x="4672440" y="3655080"/>
                <a:ext cx="266400" cy="1871640"/>
              </a:xfrm>
              <a:custGeom>
                <a:avLst/>
                <a:gdLst>
                  <a:gd name="textAreaLeft" fmla="*/ 170280 w 266400"/>
                  <a:gd name="textAreaRight" fmla="*/ 266760 w 266400"/>
                  <a:gd name="textAreaTop" fmla="*/ 48600 h 1871640"/>
                  <a:gd name="textAreaBottom" fmla="*/ 182304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805280" y="4114800"/>
                <a:ext cx="1800" cy="355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571120" y="4695840"/>
                <a:ext cx="5065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836880" y="4905360"/>
                <a:ext cx="45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8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416480" y="4905360"/>
                <a:ext cx="500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.8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106600" y="4905360"/>
                <a:ext cx="45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8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326760" y="5276880"/>
                <a:ext cx="556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RN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263920" y="5537160"/>
                <a:ext cx="500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.8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4927680" y="5762520"/>
                <a:ext cx="425520" cy="177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11240" y="5630760"/>
                <a:ext cx="45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8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06560" y="6129360"/>
                <a:ext cx="45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8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5400000">
                <a:off x="4782600" y="3369960"/>
                <a:ext cx="76320" cy="9558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24840 h 955800"/>
                  <a:gd name="textAreaBottom" fmla="*/ 930960 h 95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7851"/>
                    </a:lnTo>
                    <a:cubicBezTo>
                      <a:pt x="10800" y="8751"/>
                      <a:pt x="16200" y="9651"/>
                      <a:pt x="21600" y="9651"/>
                    </a:cubicBezTo>
                    <a:cubicBezTo>
                      <a:pt x="16200" y="9651"/>
                      <a:pt x="10800" y="10551"/>
                      <a:pt x="10800" y="11451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 flipV="1">
              <a:off x="4133880" y="6232680"/>
              <a:ext cx="218880" cy="3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multigene famil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 of identical DNA sequences, usually clustered tandemly, such as those that code for RNA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77920" y="5589000"/>
            <a:ext cx="1779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19.17a Part of the ribosomal RNA gene fami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149720" y="5791320"/>
            <a:ext cx="184320" cy="6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lassic examples of multigene families of nonidentical 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wo related families of genes that encode glob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16000" y="5287680"/>
            <a:ext cx="2395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19.17b The human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globin and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globin gene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1"/>
          <a:stretch/>
        </p:blipFill>
        <p:spPr>
          <a:xfrm>
            <a:off x="2590920" y="2819520"/>
            <a:ext cx="4267080" cy="325908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5357880" y="2696760"/>
            <a:ext cx="662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Glob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2533680" y="2846520"/>
            <a:ext cx="4137840" cy="3570120"/>
            <a:chOff x="2533680" y="2846520"/>
            <a:chExt cx="4137840" cy="3570120"/>
          </a:xfrm>
        </p:grpSpPr>
        <p:sp>
          <p:nvSpPr>
            <p:cNvPr id="857" name=""/>
            <p:cNvSpPr/>
            <p:nvPr/>
          </p:nvSpPr>
          <p:spPr>
            <a:xfrm>
              <a:off x="3213000" y="2846520"/>
              <a:ext cx="522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683160" y="2968560"/>
              <a:ext cx="755640" cy="25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97000" y="3389400"/>
              <a:ext cx="918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emoglob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240360" y="3801960"/>
              <a:ext cx="671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Glob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3873240" y="3887640"/>
              <a:ext cx="393480" cy="51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5257440" y="2867040"/>
              <a:ext cx="144360" cy="1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10600" y="4354200"/>
              <a:ext cx="1350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Globin gene fami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099760" y="4343040"/>
              <a:ext cx="1341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Globin gene fami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005280" y="4632480"/>
              <a:ext cx="1119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romosome 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205240" y="4632480"/>
              <a:ext cx="1119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romosome 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533680" y="5867280"/>
              <a:ext cx="621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mbry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722040" y="5681520"/>
              <a:ext cx="70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t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d adul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589640" y="5842080"/>
              <a:ext cx="621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mbry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299560" y="5851440"/>
              <a:ext cx="502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t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181560" y="5851440"/>
              <a:ext cx="471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ul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537080" y="6172200"/>
              <a:ext cx="184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785480" y="5020920"/>
              <a:ext cx="275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263560" y="4985280"/>
              <a:ext cx="32508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20960" y="4975920"/>
              <a:ext cx="3099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848200" y="4958280"/>
              <a:ext cx="3114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172200" y="5011560"/>
              <a:ext cx="247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416280" y="499572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733840" y="5032440"/>
              <a:ext cx="2415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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287880" y="4982040"/>
              <a:ext cx="43488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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548880" y="5085360"/>
              <a:ext cx="258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623040" y="4993920"/>
              <a:ext cx="271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701520" y="5058360"/>
              <a:ext cx="258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10240" y="5007600"/>
              <a:ext cx="30528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029480" y="5007600"/>
              <a:ext cx="30528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329000" y="4997880"/>
              <a:ext cx="3222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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pt 19.5: Duplications, rearrangements, and mutations of DNA contribute to genome ev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asis of change at the genomic level is mu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underlies much of genome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Duplication of Chromosome Set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idents in cell di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ead to extra copies of all or part of a genome, which may then diverge if one set accumulates sequenc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Duplication and Divergence of DNA Segment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qual crossing over during prophase I of me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result in one chromosome with a deletion and another with a duplication of a particular ge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825480" y="6204240"/>
            <a:ext cx="1766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9.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641680" y="2703600"/>
            <a:ext cx="3919320" cy="3790800"/>
            <a:chOff x="2641680" y="2703600"/>
            <a:chExt cx="3919320" cy="3790800"/>
          </a:xfrm>
        </p:grpSpPr>
        <p:pic>
          <p:nvPicPr>
            <p:cNvPr id="895" name="" descr=""/>
            <p:cNvPicPr/>
            <p:nvPr/>
          </p:nvPicPr>
          <p:blipFill>
            <a:blip r:embed="rId1"/>
            <a:stretch/>
          </p:blipFill>
          <p:spPr>
            <a:xfrm>
              <a:off x="2641680" y="2716200"/>
              <a:ext cx="39193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"/>
            <p:cNvSpPr/>
            <p:nvPr/>
          </p:nvSpPr>
          <p:spPr>
            <a:xfrm>
              <a:off x="3387600" y="3260880"/>
              <a:ext cx="803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nsi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romati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4032360" y="3263760"/>
              <a:ext cx="655560" cy="16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037040" y="3432240"/>
              <a:ext cx="657360" cy="10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244040" y="2703600"/>
              <a:ext cx="951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s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l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829040" y="2952720"/>
              <a:ext cx="254160" cy="24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217120" y="2720880"/>
              <a:ext cx="49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472000" y="291924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501720" y="4587840"/>
              <a:ext cx="12441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correct pair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 two homologu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uring meios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829760" y="3933720"/>
              <a:ext cx="76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osso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227560" y="4135320"/>
              <a:ext cx="0" cy="532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114160" y="5935680"/>
              <a:ext cx="395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47920" y="3809880"/>
            <a:ext cx="6553080" cy="25164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lectron micro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folded chromatin has the appearance of beads on a st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“bead” is a nucle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asic unit of DNA pac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242400"/>
            <a:ext cx="190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9.2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367280" y="3984840"/>
            <a:ext cx="3511440" cy="2127600"/>
            <a:chOff x="1367280" y="3984840"/>
            <a:chExt cx="3511440" cy="2127600"/>
          </a:xfrm>
        </p:grpSpPr>
        <p:sp>
          <p:nvSpPr>
            <p:cNvPr id="187" name=""/>
            <p:cNvSpPr/>
            <p:nvPr/>
          </p:nvSpPr>
          <p:spPr>
            <a:xfrm>
              <a:off x="4344840" y="3984840"/>
              <a:ext cx="497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 n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03440" y="4924440"/>
              <a:ext cx="5752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 n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76280" y="4245120"/>
              <a:ext cx="12639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NA double heli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59000" y="4539240"/>
              <a:ext cx="6591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isto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ai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67280" y="4591080"/>
              <a:ext cx="4942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i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2117520" y="4619520"/>
              <a:ext cx="177480" cy="9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93920" y="464040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16320" y="5401440"/>
              <a:ext cx="899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inker DN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“string”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00200" y="4952880"/>
              <a:ext cx="217440" cy="1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92280" y="49528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286000" y="5286240"/>
              <a:ext cx="68400" cy="14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79720" y="5409360"/>
              <a:ext cx="9622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cleosom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“bad”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86240" y="4952880"/>
              <a:ext cx="810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istone H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648240" y="5167440"/>
              <a:ext cx="23760" cy="9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5806800"/>
              <a:ext cx="2740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a) Nucleosomes (10-nm fib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11320" y="5410080"/>
              <a:ext cx="76320" cy="30492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Evolution of Genes with Related Functions: The Human Globin Gen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04920" y="1084320"/>
            <a:ext cx="85341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es encoding the various globin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ved from one common ancestral globin gene, which duplicated and diverg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55600" y="6229800"/>
            <a:ext cx="1766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9.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1495800" y="2719440"/>
            <a:ext cx="7343280" cy="3795840"/>
            <a:chOff x="1495800" y="2719440"/>
            <a:chExt cx="7343280" cy="3795840"/>
          </a:xfrm>
        </p:grpSpPr>
        <p:pic>
          <p:nvPicPr>
            <p:cNvPr id="911" name="" descr=""/>
            <p:cNvPicPr/>
            <p:nvPr/>
          </p:nvPicPr>
          <p:blipFill>
            <a:blip r:embed="rId1"/>
            <a:stretch/>
          </p:blipFill>
          <p:spPr>
            <a:xfrm>
              <a:off x="1827360" y="2900520"/>
              <a:ext cx="701172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"/>
            <p:cNvSpPr/>
            <p:nvPr/>
          </p:nvSpPr>
          <p:spPr>
            <a:xfrm>
              <a:off x="4914360" y="2719440"/>
              <a:ext cx="1657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cestral globin ge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421240" y="3776400"/>
              <a:ext cx="281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752080" y="3776400"/>
              <a:ext cx="268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306680" y="4497120"/>
              <a:ext cx="281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557040" y="4492440"/>
              <a:ext cx="268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877520" y="4971960"/>
              <a:ext cx="268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841640" y="4986000"/>
              <a:ext cx="281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781800" y="4973400"/>
              <a:ext cx="25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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672360" y="5803560"/>
              <a:ext cx="25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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162680" y="5788440"/>
              <a:ext cx="3344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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363920" y="5800680"/>
              <a:ext cx="290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477680" y="5828040"/>
              <a:ext cx="297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633920" y="5813280"/>
              <a:ext cx="333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744440" y="5841000"/>
              <a:ext cx="297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955400" y="5821560"/>
              <a:ext cx="3297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252400" y="5816880"/>
              <a:ext cx="3297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512680" y="5813640"/>
              <a:ext cx="335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348600" y="5816520"/>
              <a:ext cx="293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954840" y="5813640"/>
              <a:ext cx="3542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279560" y="5807520"/>
              <a:ext cx="3376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635240" y="5788440"/>
              <a:ext cx="3387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368200" y="5813280"/>
              <a:ext cx="268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091720" y="5813280"/>
              <a:ext cx="25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18160" y="6051600"/>
              <a:ext cx="1598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Globin gene fami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n chromosome 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73160" y="6057720"/>
              <a:ext cx="162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Globin gene fami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n chromosome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983280" y="495612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178680" y="4986000"/>
              <a:ext cx="293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6168800">
              <a:off x="877680" y="4064400"/>
              <a:ext cx="1555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olutionary 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25280" y="3009600"/>
              <a:ext cx="13568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uplication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cestral g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926000" y="3500280"/>
              <a:ext cx="1099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tation 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oth cop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926000" y="3958920"/>
              <a:ext cx="20016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sition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fferent chromoso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923840" y="4489200"/>
              <a:ext cx="1753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rther dupl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d mut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sequent duplications of these genes and random mu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ve rise to the present globin genes, all of which code for oxygen-binding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milarity in the amino acid sequences of the various globin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s this model of gene duplication and mu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55600" y="6262920"/>
            <a:ext cx="1766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19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1"/>
          <a:stretch/>
        </p:blipFill>
        <p:spPr>
          <a:xfrm>
            <a:off x="1066680" y="2698920"/>
            <a:ext cx="769644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Evolution of Genes with Novel Function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opies of some duplicated 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diverged so much during evolutionary time that the functions of their encoded proteins are now substantially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Rearrangements of Parts of Genes: Exon Duplication and Exon Shuffling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304920" y="1114200"/>
            <a:ext cx="853416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articular exon within a ge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be duplicated on one chromosome and deleted from the homologous chrom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xon shuff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s in meiotic recombination lead to the occasional mixing and matching of different exons either within a gene or between two nonallelic ge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95440" y="6172560"/>
            <a:ext cx="1766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9.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981080" y="3048120"/>
            <a:ext cx="6019920" cy="3429000"/>
            <a:chOff x="1981080" y="3048120"/>
            <a:chExt cx="6019920" cy="3429000"/>
          </a:xfrm>
        </p:grpSpPr>
        <p:pic>
          <p:nvPicPr>
            <p:cNvPr id="958" name="" descr=""/>
            <p:cNvPicPr/>
            <p:nvPr/>
          </p:nvPicPr>
          <p:blipFill>
            <a:blip r:embed="rId1"/>
            <a:stretch/>
          </p:blipFill>
          <p:spPr>
            <a:xfrm>
              <a:off x="1981080" y="3048120"/>
              <a:ext cx="60199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9" name=""/>
            <p:cNvSpPr/>
            <p:nvPr/>
          </p:nvSpPr>
          <p:spPr>
            <a:xfrm>
              <a:off x="2210760" y="3286080"/>
              <a:ext cx="445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G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742840" y="3290760"/>
              <a:ext cx="445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G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287160" y="3294000"/>
              <a:ext cx="445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G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827160" y="3287880"/>
              <a:ext cx="445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G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083680" y="3481560"/>
              <a:ext cx="15444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pidermal grow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ctor gene with multip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GF exons (gree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45920" y="4276800"/>
              <a:ext cx="26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034800" y="4281480"/>
              <a:ext cx="26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551040" y="4281480"/>
              <a:ext cx="26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66920" y="4278240"/>
              <a:ext cx="26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090880" y="4487760"/>
              <a:ext cx="18522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bronectin gene with multip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nger” exons (orang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292720" y="4000680"/>
              <a:ext cx="654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91e"/>
                  </a:solidFill>
                  <a:latin typeface="Arial"/>
                </a:rPr>
                <a:t>Ex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91e"/>
                  </a:solidFill>
                  <a:latin typeface="Arial"/>
                </a:rPr>
                <a:t>shuffl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862680" y="4054320"/>
              <a:ext cx="786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91e"/>
                  </a:solidFill>
                  <a:latin typeface="Arial"/>
                </a:rPr>
                <a:t>Ex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91e"/>
                  </a:solidFill>
                  <a:latin typeface="Arial"/>
                </a:rPr>
                <a:t>du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308560" y="5462640"/>
              <a:ext cx="654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91e"/>
                  </a:solidFill>
                  <a:latin typeface="Arial"/>
                </a:rPr>
                <a:t>Ex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91e"/>
                  </a:solidFill>
                  <a:latin typeface="Arial"/>
                </a:rPr>
                <a:t>shuffl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76160" y="5311800"/>
              <a:ext cx="268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93960" y="4686480"/>
              <a:ext cx="26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805000" y="4686480"/>
              <a:ext cx="445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G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708600" y="4686480"/>
              <a:ext cx="268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372080" y="4692600"/>
              <a:ext cx="268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081520" y="5516640"/>
              <a:ext cx="1593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sminogen gene with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fingle” exon (blu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037600" y="6149880"/>
              <a:ext cx="18446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rtions of ancestral ge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228280" y="6149880"/>
              <a:ext cx="1823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TPA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gene as it exists tod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ow Transposable Elements Contribute to Genome Evolution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ment of transposable elements or recombination between copies of the same e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asionally generates new sequence combinations that are beneficial to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mechanis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ter the functions of genes or their patterns of expression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762120" y="3008160"/>
            <a:ext cx="7619760" cy="2173320"/>
            <a:chOff x="762120" y="3008160"/>
            <a:chExt cx="7619760" cy="217332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762120" y="3008160"/>
              <a:ext cx="761976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 rot="5314200">
              <a:off x="3520440" y="4048200"/>
              <a:ext cx="96840" cy="382680"/>
            </a:xfrm>
            <a:custGeom>
              <a:avLst/>
              <a:gdLst>
                <a:gd name="textAreaLeft" fmla="*/ 0 w 96840"/>
                <a:gd name="textAreaRight" fmla="*/ 34920 w 96840"/>
                <a:gd name="textAreaTop" fmla="*/ 9720 h 382680"/>
                <a:gd name="textAreaBottom" fmla="*/ 372960 h 38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380"/>
                  </a:lnTo>
                  <a:cubicBezTo>
                    <a:pt x="10800" y="10280"/>
                    <a:pt x="16200" y="11180"/>
                    <a:pt x="21600" y="11180"/>
                  </a:cubicBezTo>
                  <a:cubicBezTo>
                    <a:pt x="16200" y="11180"/>
                    <a:pt x="10800" y="12080"/>
                    <a:pt x="10800" y="1298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84760" y="4250880"/>
              <a:ext cx="1175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cleoso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19280" y="3536640"/>
              <a:ext cx="680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 n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30360" y="4649400"/>
              <a:ext cx="1424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b) 30-nm fi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Higher Levels of DNA Packing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xt level of pac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s the 30-nm chromatin fi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9760" y="5334480"/>
            <a:ext cx="190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9.2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30-nm fiber, in tu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s looped domains, making up a 300-nm fi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5334480"/>
            <a:ext cx="190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9.2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" y="3390480"/>
            <a:ext cx="8505360" cy="1771920"/>
            <a:chOff x="457200" y="3390480"/>
            <a:chExt cx="8505360" cy="177192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457200" y="3441600"/>
              <a:ext cx="754380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245320" y="3390480"/>
              <a:ext cx="1418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tein scaffo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611080" y="3675240"/>
              <a:ext cx="88920" cy="69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28480" y="4038120"/>
              <a:ext cx="779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 n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57600" y="4555800"/>
              <a:ext cx="310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c) Looped domains (300-nm fib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70200" y="3428640"/>
              <a:ext cx="671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o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86600" y="358128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7315200" y="3581280"/>
              <a:ext cx="91440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31320" y="4020840"/>
              <a:ext cx="831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affo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45320" y="4186080"/>
              <a:ext cx="1428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 mitotic chromos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oped domains themselves coil and fold forming the characteristic metaphase chrom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3040" y="6064560"/>
            <a:ext cx="190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9.2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33520" y="3111480"/>
            <a:ext cx="8229600" cy="2829600"/>
            <a:chOff x="533520" y="3111480"/>
            <a:chExt cx="8229600" cy="282960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533520" y="3111480"/>
              <a:ext cx="8229600" cy="251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156920" y="3659400"/>
              <a:ext cx="695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0 n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34240" y="4954680"/>
              <a:ext cx="823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400 n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08640" y="5635440"/>
              <a:ext cx="254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d) Metaphase chromoso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xx</cp:lastModifiedBy>
  <cp:lastPrinted>2004-11-23T15:03:24Z</cp:lastPrinted>
  <dcterms:modified xsi:type="dcterms:W3CDTF">2004-11-23T16:06:50Z</dcterms:modified>
  <cp:revision>1907</cp:revision>
  <dc:subject/>
  <dc:title>video slide</dc:title>
</cp:coreProperties>
</file>